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1BAA-631A-4F05-BF98-6411D466B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281E-5B09-49E0-8EAE-E6A754B4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4565-CB28-4FDC-A2E6-5CD77E4E2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7949-E56B-4275-BF3F-885780E48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F2EB-C59D-4A2D-942A-CD56B24F7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002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E5F7-00C9-45E3-A92F-C06E9C45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0E14B-E4CE-4EB8-BCCD-F2A14040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64A6-B859-4961-AD41-0D59633E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05C0-65E6-4708-B3DB-74D4917A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002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2450-2855-4ECD-B74F-AA142B99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BDDD-40FA-4241-8C91-B3846F49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002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1618-A1A9-4A5A-BBEF-CED09557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C0A0-10D0-40F4-9340-5EA25D1A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7383-C90A-4475-BA2A-8D617330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979E-2161-4A86-87F0-78AB733A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7DD9-5696-4C49-8178-B43EFA535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5A9F-E746-4A71-9934-D7F98C43B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F70A-3F1B-4C35-BB23-E626F935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12A5-07C2-4240-9FD7-83D27631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06C9-2526-45CB-9068-1F90205C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002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32E6-5181-413E-A388-0C63B91C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715E-4683-4694-8486-AB452BB6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39BD-A7DE-40FC-AC68-A36D3F1D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12C9-88FC-448B-8A05-65E5485C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6" descr="a_fin_03_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0B65-91F8-405E-BCF5-7D60AC2CB9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294840" indent="393120">
              <a:lnSpc>
                <a:spcPct val="150000"/>
              </a:lnSpc>
              <a:buClr>
                <a:srgbClr val="40458c"/>
              </a:buClr>
              <a:buSzPct val="6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294840" indent="393120">
              <a:lnSpc>
                <a:spcPct val="150000"/>
              </a:lnSpc>
              <a:buClr>
                <a:srgbClr val="6f89f7"/>
              </a:buClr>
              <a:buSzPct val="95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294840" indent="393120">
              <a:lnSpc>
                <a:spcPct val="150000"/>
              </a:lnSpc>
              <a:buClr>
                <a:srgbClr val="40458c"/>
              </a:buClr>
              <a:buSzPct val="65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94840" indent="393120">
              <a:lnSpc>
                <a:spcPct val="150000"/>
              </a:lnSpc>
              <a:buClr>
                <a:srgbClr val="6f89f7"/>
              </a:buClr>
              <a:buSzPct val="6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94840" indent="393120">
              <a:lnSpc>
                <a:spcPct val="150000"/>
              </a:lnSpc>
              <a:buClr>
                <a:srgbClr val="40458c"/>
              </a:buClr>
              <a:buSzPct val="6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94840" indent="393120">
              <a:lnSpc>
                <a:spcPct val="150000"/>
              </a:lnSpc>
              <a:buClr>
                <a:srgbClr val="40458c"/>
              </a:buClr>
              <a:buSzPct val="6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0" descr="a_fin_03_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294840" indent="393120">
              <a:lnSpc>
                <a:spcPct val="150000"/>
              </a:lnSpc>
              <a:buClr>
                <a:srgbClr val="40458c"/>
              </a:buClr>
              <a:buSzPct val="6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294840" indent="393120">
              <a:lnSpc>
                <a:spcPct val="150000"/>
              </a:lnSpc>
              <a:buClr>
                <a:srgbClr val="6f89f7"/>
              </a:buClr>
              <a:buSzPct val="95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294840" indent="393120">
              <a:lnSpc>
                <a:spcPct val="150000"/>
              </a:lnSpc>
              <a:buClr>
                <a:srgbClr val="40458c"/>
              </a:buClr>
              <a:buSzPct val="65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94840" indent="393120">
              <a:lnSpc>
                <a:spcPct val="150000"/>
              </a:lnSpc>
              <a:buClr>
                <a:srgbClr val="6f89f7"/>
              </a:buClr>
              <a:buSzPct val="6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94840" indent="393120">
              <a:lnSpc>
                <a:spcPct val="150000"/>
              </a:lnSpc>
              <a:buClr>
                <a:srgbClr val="40458c"/>
              </a:buClr>
              <a:buSzPct val="6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94840" indent="393120">
              <a:lnSpc>
                <a:spcPct val="150000"/>
              </a:lnSpc>
              <a:buClr>
                <a:srgbClr val="40458c"/>
              </a:buClr>
              <a:buSzPct val="6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B2DC-4040-41F8-AC28-8369653544FB}" type="slidenum"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华文彩云"/>
                <a:ea typeface="华文彩云"/>
              </a:rPr>
              <a:t>第六章  无土育苗技术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华文彩云"/>
                <a:ea typeface="华文彩云"/>
              </a:rPr>
              <a:t>            </a:t>
            </a:r>
            <a:r>
              <a:rPr b="1" lang="en-US" sz="4000" spc="-1" strike="noStrike">
                <a:solidFill>
                  <a:srgbClr val="ffffff"/>
                </a:solidFill>
                <a:latin typeface="华文彩云"/>
                <a:ea typeface="华文彩云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华文彩云"/>
                <a:ea typeface="华文彩云"/>
              </a:rPr>
              <a:t>花卉育苗</a:t>
            </a:r>
            <a:br>
              <a:rPr sz="6000"/>
            </a:br>
            <a:endParaRPr b="0" lang="en-US" sz="4000" spc="-1" strike="noStrike">
              <a:solidFill>
                <a:srgbClr val="ff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宋体"/>
              </a:rPr>
              <a:t>穴盘育苗自动生产线</a:t>
            </a:r>
            <a:endParaRPr b="0" lang="en-US" sz="2800" spc="-1" strike="noStrike">
              <a:solidFill>
                <a:srgbClr val="ffccff"/>
              </a:solidFill>
              <a:latin typeface="Tahoma"/>
            </a:endParaRPr>
          </a:p>
        </p:txBody>
      </p:sp>
      <p:pic>
        <p:nvPicPr>
          <p:cNvPr id="102" name="Picture 5" descr="E:\课件\无土栽培技术\无土\73.tif"/>
          <p:cNvPicPr/>
          <p:nvPr/>
        </p:nvPicPr>
        <p:blipFill>
          <a:blip r:embed="rId1"/>
          <a:srcRect l="4125" t="0" r="5155" b="78883"/>
          <a:stretch/>
        </p:blipFill>
        <p:spPr>
          <a:xfrm>
            <a:off x="755640" y="2205000"/>
            <a:ext cx="8001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02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．塑料钵育苗</a:t>
            </a:r>
            <a:br>
              <a:rPr sz="2800"/>
            </a:br>
            <a:endParaRPr b="0" lang="en-US" sz="28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沙砾培和现代的深液流水培技术中常用。如下图所示，做成侧面和底面有孔穴的硬质塑料钵，内装砾石或其他基质，容积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00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8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毫升，主要用作观叶类花卉的育苗，放在营养液深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.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.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的育苗盆中进行育苗，以后直接定植到种植槽上的定植板孔穴中或花盆中，根随之从底部和侧面的小孔中伸入到营养液中或基质中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  <a:ea typeface="宋体"/>
              </a:rPr>
              <a:t>水培用各种成型塑料育苗钵</a:t>
            </a:r>
            <a:endParaRPr b="0" lang="en-US" sz="3200" spc="-1" strike="noStrike">
              <a:solidFill>
                <a:srgbClr val="ffccff"/>
              </a:solidFill>
              <a:latin typeface="Tahoma"/>
            </a:endParaRPr>
          </a:p>
        </p:txBody>
      </p:sp>
      <p:pic>
        <p:nvPicPr>
          <p:cNvPr id="106" name="Picture 5" descr="E:\课件\无土栽培技术\无土\73.tif"/>
          <p:cNvPicPr/>
          <p:nvPr/>
        </p:nvPicPr>
        <p:blipFill>
          <a:blip r:embed="rId1"/>
          <a:srcRect l="0" t="67347" r="3922" b="8364"/>
          <a:stretch/>
        </p:blipFill>
        <p:spPr>
          <a:xfrm>
            <a:off x="826920" y="2421000"/>
            <a:ext cx="74678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．泡沫小方块育苗</a:t>
            </a:r>
            <a:br>
              <a:rPr sz="2400"/>
            </a:br>
            <a:endParaRPr b="0" lang="en-US" sz="2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适用于某些深液流水培或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NFT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培。用一种育苗专用的聚氨脂泡沫小方块平铺于育苗盘上，每小块中间切一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”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形隙缝，将已催芽的种子一个个嵌入隙缝中，然后向育苗盘中加入营养液，让其出苗、生长，到成苗后，一块块地分离，定植到种植槽中或花盆中，进行无土栽培。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宋体"/>
              </a:rPr>
              <a:t>播种用泡沫育苗块</a:t>
            </a:r>
            <a:endParaRPr b="0" lang="en-US" sz="2800" spc="-1" strike="noStrike">
              <a:solidFill>
                <a:srgbClr val="ffccff"/>
              </a:solidFill>
              <a:latin typeface="Tahoma"/>
            </a:endParaRPr>
          </a:p>
        </p:txBody>
      </p:sp>
      <p:pic>
        <p:nvPicPr>
          <p:cNvPr id="110" name="Picture 5" descr="E:\课件\无土栽培技术\无土\74.tif"/>
          <p:cNvPicPr/>
          <p:nvPr/>
        </p:nvPicPr>
        <p:blipFill>
          <a:blip r:embed="rId1"/>
          <a:srcRect l="52216" t="1751" r="3759" b="82054"/>
          <a:stretch/>
        </p:blipFill>
        <p:spPr>
          <a:xfrm>
            <a:off x="1447920" y="1905120"/>
            <a:ext cx="62481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．岩棉块育苗</a:t>
            </a:r>
            <a:br>
              <a:rPr sz="2800"/>
            </a:br>
            <a:endParaRPr b="0" lang="en-US" sz="28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岩棉块育苗已被广泛应用于各种无土栽培之中，甚至有土栽培也开始应用。育苗用的岩棉块的形状和大小，可根据植物种类而定。一般有以下几种规格，即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×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×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×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×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×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×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7.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×7.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×7.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等方块。较大的方块面上中央开有一个小方洞，用以嵌入一块小方块，小方洞的大小刚好与嵌入的小方块吻合，叫做“钵中钵”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宋体"/>
              </a:rPr>
              <a:t>岩棉块育苗</a:t>
            </a:r>
            <a:endParaRPr b="0" lang="en-US" sz="2800" spc="-1" strike="noStrike">
              <a:solidFill>
                <a:srgbClr val="ffccff"/>
              </a:solidFill>
              <a:latin typeface="Tahoma"/>
            </a:endParaRPr>
          </a:p>
        </p:txBody>
      </p:sp>
      <p:pic>
        <p:nvPicPr>
          <p:cNvPr id="114" name="Picture 5" descr="E:\课件\无土栽培技术\无土\74.tif"/>
          <p:cNvPicPr/>
          <p:nvPr/>
        </p:nvPicPr>
        <p:blipFill>
          <a:blip r:embed="rId1"/>
          <a:srcRect l="15303" t="52193" r="17205" b="13391"/>
          <a:stretch/>
        </p:blipFill>
        <p:spPr>
          <a:xfrm>
            <a:off x="1447920" y="2209680"/>
            <a:ext cx="6172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．基菲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Jiffy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育苗小块</a:t>
            </a:r>
            <a:br>
              <a:rPr sz="2800"/>
            </a:br>
            <a:endParaRPr b="0" lang="en-US" sz="28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由挪威生产的一种由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7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％泥炭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％纸浆，再加上一些化肥和胶粘剂压缩成圆形的小块，外面包以有弹性的尼龙网状物，直径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4.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，厚仅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毫米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见下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。使用时，将其放人盘中喷水或底面渗水使其膨胀，膨大成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高的钵状育苗块，即可播种或移苗。当幼苗根系穿出尼龙网时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约生长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就可定植。主要用于种子繁殖的名贵花卉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  <a:ea typeface="宋体"/>
              </a:rPr>
              <a:t>基菲育苗小块</a:t>
            </a:r>
            <a:endParaRPr b="0" lang="en-US" sz="3200" spc="-1" strike="noStrike">
              <a:solidFill>
                <a:srgbClr val="ffccff"/>
              </a:solidFill>
              <a:latin typeface="Tahoma"/>
            </a:endParaRPr>
          </a:p>
        </p:txBody>
      </p:sp>
      <p:pic>
        <p:nvPicPr>
          <p:cNvPr id="118" name="Picture 5" descr="E:\课件\无土栽培技术\无土\75.tif"/>
          <p:cNvPicPr/>
          <p:nvPr/>
        </p:nvPicPr>
        <p:blipFill>
          <a:blip r:embed="rId1"/>
          <a:srcRect l="69482" t="39066" r="16760" b="47578"/>
          <a:stretch/>
        </p:blipFill>
        <p:spPr>
          <a:xfrm>
            <a:off x="1371600" y="1676520"/>
            <a:ext cx="59436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五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营养液及其供给</a:t>
            </a:r>
            <a:endParaRPr b="0" lang="en-US" sz="28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无土育苗营养液依基质种类、育苗方式和花卉种类等的不同有多种配方，现介绍如下几种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配方一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0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升水中，加入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4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5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克尿素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450—8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克磷酸二氢钾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5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克硫酸镁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7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克硫酸钙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配方二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0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升水中，加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35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克硝酸铵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8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克硝酸钾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5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克硫酸镁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55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克过磷酸钙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配方三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0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升水中，加入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600—7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克硝酸铵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4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5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克磷酸二氢钾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5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克硫酸镁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aff"/>
                </a:solidFill>
                <a:latin typeface="Times New Roman"/>
                <a:ea typeface="宋体"/>
              </a:rPr>
              <a:t>一、播种育苗</a:t>
            </a: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一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种子发芽所需的环境条件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．水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花卉种子成熟后，大多以干燥状态进行贮藏。种子萌发首先需要吸收充足的水分，如豆科花卉香豌豆可吸收相当原来种子实际重量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8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％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2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％的水量。种子吸水膨胀后，种皮破裂，呼吸强度增大，蛋白质及淀粉等贮藏物开始加速转化为合成代谢的原料和能量，胚吸收这些物质合成新的细胞生长所需的物质，促使细胞分裂和生长。这些过程都要有充足的水分才能进行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以上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种配方，可根据化肥来源任选一种，除上述主要营养元素外，必要时还需加入微量元素。常用配方中加入的微量元素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0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升水中，加入硼酸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克、硫酸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克、硫酸锰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克、硫酸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0.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克、硫酸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0.0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克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穴盘育苗也可用复合肥配成的营养液进行喷灌。复合肥在子叶期可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0.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％浓度，长到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片真叶以后浓度提高到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0.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％一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0.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％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供液与供水结合进行。机械化育苗，面积大的可采用双臂流动式喷水管道，悬挂于温室顶架上，可来回移动喷水或喷液。夏天气温高，每天喷水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次，每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天喷液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次；冬季可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—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天喷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次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次喷水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次喷营养液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ff"/>
              </a:solidFill>
              <a:latin typeface="Tahoma"/>
              <a:ea typeface="宋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另一种方式是底部供液法。传统的方法是把水或营养液蓄在育苗床内，床底铺黑色聚乙烯薄膜做衬垫，并使床内经常能蓄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左右的营养液。冬季育苗需加温，如图所示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还有一种较理想的供液方法，即在育苗床面铺上一条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毫米的亲水无纺布垫在岩棉育苗块底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左右的一边，再用滴灌的方法向无纺布滴液，再通过无纺布的毛管作用将营养液传到岩棉块中去。此法的供液效果较浇液法和浸液法好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宋体"/>
              </a:rPr>
              <a:t>育苗床的构造</a:t>
            </a:r>
            <a:endParaRPr b="0" lang="en-US" sz="2800" spc="-1" strike="noStrike">
              <a:solidFill>
                <a:srgbClr val="ffccff"/>
              </a:solidFill>
              <a:latin typeface="Tahoma"/>
            </a:endParaRPr>
          </a:p>
        </p:txBody>
      </p:sp>
      <p:pic>
        <p:nvPicPr>
          <p:cNvPr id="125" name="Picture 5" descr="E:\课件\无土栽培技术\无土\76.tif"/>
          <p:cNvPicPr/>
          <p:nvPr/>
        </p:nvPicPr>
        <p:blipFill>
          <a:blip r:embed="rId1"/>
          <a:srcRect l="13687" t="25859" r="34938" b="51176"/>
          <a:stretch/>
        </p:blipFill>
        <p:spPr>
          <a:xfrm>
            <a:off x="539640" y="1773360"/>
            <a:ext cx="80773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六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育苗期的环境调控</a:t>
            </a:r>
            <a:endParaRPr b="0" lang="en-US" sz="28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．光照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光照强度是影响光合作用的重要因素，同时也影响幼苗叶温。冬春季节光照弱，应加大幼苗株行距，以免相互遮光，苗木  生长细弱。必要时需要进行人工补光。夏季育苗，为降低叶温和根际温度，要进行遮光降温或喷雾降温。温室、大棚可用遮阳网遮光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．温度</a:t>
            </a:r>
            <a:br>
              <a:rPr sz="2400"/>
            </a:br>
            <a:endParaRPr b="0" lang="en-US" sz="2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播种后，温度控制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30℃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之间，空气相对湿度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8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％以上，绝大多数花卉种子，经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天即可出苗。出苗后温度应随着苗的生长而逐渐下降，白天保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8℃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，夜间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5—18℃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，基质和营养液的温度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0℃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，空气温度过高时应适当通风。定植前要降低温度进行炼苗。冬季可进行加温育苗，夏季要降温育苗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无土育苗，除了对环境温度、，光照、水分和营养进行严格调节外，也可以进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施肥，以培育壮苗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3440" y="731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  <a:ea typeface="宋体"/>
              </a:rPr>
              <a:t>二、扦插育苗</a:t>
            </a:r>
            <a:r>
              <a:rPr b="0" lang="zh-CN" sz="4400" spc="-1" strike="noStrike">
                <a:solidFill>
                  <a:srgbClr val="00ff00"/>
                </a:solidFill>
                <a:latin typeface="Tahoma"/>
                <a:ea typeface="宋体"/>
              </a:rPr>
              <a:t> </a:t>
            </a: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一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扦插的种类及方法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．叶插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ffff"/>
                </a:solidFill>
                <a:uFillTx/>
                <a:latin typeface="Times New Roman"/>
                <a:ea typeface="宋体"/>
              </a:rPr>
              <a:t>凡是能自叶上发生不定芽及不定根的种类，均可用叶插法繁殖。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适合叶插繁殖的花卉，大都具有粗壮的叶柄、叶脉或肥厚的叶片。常用叶插繁殖的花卉有落地生根、石莲花、景天树、椒草、千岁兰、虎皮兰、蟆叶秋海棠等。具体方法见图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  <a:ea typeface="宋体"/>
              </a:rPr>
              <a:t>叶     插</a:t>
            </a:r>
            <a:endParaRPr b="0" lang="en-US" sz="3200" spc="-1" strike="noStrike">
              <a:solidFill>
                <a:srgbClr val="ffccff"/>
              </a:solidFill>
              <a:latin typeface="Tahoma"/>
            </a:endParaRPr>
          </a:p>
        </p:txBody>
      </p:sp>
      <p:pic>
        <p:nvPicPr>
          <p:cNvPr id="133" name="Picture 5" descr="E:\课件\无土栽培技术\无土\78.tif"/>
          <p:cNvPicPr/>
          <p:nvPr/>
        </p:nvPicPr>
        <p:blipFill>
          <a:blip r:embed="rId1"/>
          <a:srcRect l="18595" t="21888" r="40664" b="54175"/>
          <a:stretch/>
        </p:blipFill>
        <p:spPr>
          <a:xfrm>
            <a:off x="971640" y="1916280"/>
            <a:ext cx="4572000" cy="35049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5796000" y="2133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ahoma"/>
                <a:ea typeface="宋体"/>
              </a:rPr>
              <a:t>1.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  <a:ea typeface="宋体"/>
              </a:rPr>
              <a:t>螟叶秋海棠叶插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6156360" y="3284640"/>
            <a:ext cx="223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ahoma"/>
                <a:ea typeface="宋体"/>
              </a:rPr>
              <a:t>2.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  <a:ea typeface="宋体"/>
              </a:rPr>
              <a:t>大岩桐叶插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6448320" y="443700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ahoma"/>
                <a:ea typeface="宋体"/>
              </a:rPr>
              <a:t>3.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  <a:ea typeface="宋体"/>
              </a:rPr>
              <a:t>千岁兰叶插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．茎插</a:t>
            </a:r>
            <a:br>
              <a:rPr sz="2400"/>
            </a:br>
            <a:endParaRPr b="0" lang="en-US" sz="2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也叫枝插。分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软枝扦插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硬枝扦插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软枝扦插主要用于温室花卉和常绿花木，如天竺葵、秋海棠类、倒挂金钟、彩叶草、茉莉、杜鹃、含笑、夹竹桃等。一般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5—9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月间进行。选取当年生健壮充实带叶的枝条作插穗，过于柔嫩的枝条易腐烂，过老的枝条则不易生根。插穗长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，至少带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个芽，剪去下部叶片，保留上部叶片或酌情剪掉一部分，以减少蒸发。随剪随插成活率最高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ff"/>
              </a:solidFill>
              <a:latin typeface="Tahoma"/>
              <a:ea typeface="宋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硬枝扦插多用于落叶花木，如石榴、月季、木槿、一晶红、迎春、葡萄等。选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—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年生健壮枝条作插穗，入冬前沙藏在窖里，春季扦插，或在温室内提前扦插。插穗选取枝条中段，芽饱满处，长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，插入准备好的基质中，深度为插穗的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／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3—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／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．根插</a:t>
            </a:r>
            <a:endParaRPr b="0" lang="en-US" sz="2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有些花卉根上能长出不定芽，可用根插繁殖。如芍药、荷包牡丹、宿根福禄考、荷兰菊等。其他花卉很少用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不论采取哪种扦插方法，插后都要浇足水，最好采取喷雾法浇水，再在扦插盆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床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上覆盖塑料薄膜，以保持一定的温度和  较高的空气湿度，置于半阴处，待生根后再移植培养或定植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．温度</a:t>
            </a:r>
            <a:endParaRPr b="0" lang="en-US" sz="2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74760" y="1206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花卉种子萌发的适宜温度，依种类及原产地的不同而异。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一般来说，花卉种子的萌发适温比其生育适温高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5℃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。原产温带的花卉多数种类的萌芽适温为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25℃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，温度过低不易发芽，过高引起腐烂。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一些热带花卉种子要在较高的温度下才能萌发，如王莲。播种时，基质温度最好保持相对稳定，变化的幅度不要超过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5℃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扦插基质</a:t>
            </a:r>
            <a:br>
              <a:rPr sz="2800"/>
            </a:br>
            <a:endParaRPr b="0" lang="en-US" sz="28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31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除选好插穗外，基质选择十分重要。一般要求基质既要排水良好，又要有一定的保水性。常用作扦插繁殖的无土基质有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河沙、蛭石、珍珠岩、泥炭、炉渣、锯末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等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有些花卉用沙作为扦插基质效果不错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如一晶红、菊花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，但对一些难生根的花卉‘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如杜鹃花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，选用锯末或珍珠岩复合基质往往容易成功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基质在使用前最好进行消毒灭菌，可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0.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％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0.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％的高锰酸钾处理后覆盖一夜，即可杀死大部分病菌和虫卵。扦插后，每周可喷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次稀释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5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倍的代森锰锌等杀菌剂，效果更好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影响扦插生根的环境条件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．温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花卉的种类不同，要求的扦插生根最适温度也不同，大多数花卉扦插的适温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5℃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，热带、亚热带植物则需要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5—30℃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高温下才能扦插成活，而一些耐寒性花卉和硬枝扦插可稍低些。基质温度稍高于气温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5℃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，可促使根的发生，气温低则有抑制枝叶生长的作用。因此，在特制的扦插床或扦插箱底部设有加温设施，以促进提早生根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1383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．湿度</a:t>
            </a:r>
            <a:br>
              <a:rPr sz="2400"/>
            </a:br>
            <a:endParaRPr b="0" lang="en-US" sz="2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湿度包括基质湿度和空气湿度。插穗只有在湿润的基质中才能生根，基质中适宜水分的含量，依花卉种类的不同而异，通常以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5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％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6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％的基质含水量为适度。扦插初期，水分较多则有利于愈伤组织形成；愈伤组织形成后，应减少水分，水分过多常导致插穗腐烂。为了避免插穗枝叶中水分过分蒸腾，要求保持较高的空气湿度，通常以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8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％一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9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％的空气相对湿度为宜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．光照</a:t>
            </a:r>
            <a:br>
              <a:rPr sz="2400"/>
            </a:br>
            <a:endParaRPr b="0" lang="en-US" sz="2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叶芽插和软枝扦插常带有芽和叶片，并在日光下进行光合作用，从而产生生长素并促进插穗生根。此外，光照还能提高基质温度。但夏季过强的日光会使棚室内的气温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50℃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以上，对插穗成活极为不利，甚至会烧死插穗。因此，需适当遮阴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．氧气</a:t>
            </a:r>
            <a:br>
              <a:rPr sz="2400"/>
            </a:br>
            <a:endParaRPr b="0" lang="en-US" sz="2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当愈伤组织及新根发生时，呼吸作用增强，因此要求扦插基质具备良好的供氧条件。理想的扦插基质既能保持湿润，同时通气良好。如果采用自动喷雾装置，可采取气插育苗，生根快，效果好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四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植物生长素类在花卉扦插上的应用</a:t>
            </a:r>
            <a:br>
              <a:rPr sz="3200"/>
            </a:br>
            <a:endParaRPr b="0" lang="en-US" sz="28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在花卉扦插繁殖中，对一些难生根的花卉常采用植物生长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激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类进行处理，以促进插穗生根。常用的药剂有吲哚乙酸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AA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吲哚丁酸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BA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奈乙酸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NAA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4-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ABT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生根粉等。处理方法有粉剂处理、液剂处理、脂剂处理、对采条母株的喷施或注射以及扦插基质的处理等，以粉剂和液剂处理为多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常见花卉扦插繁殖使用激素种类及处理方法见表</a:t>
            </a:r>
            <a:r>
              <a:rPr b="0" lang="zh-CN" sz="2400" spc="-1" strike="noStrike">
                <a:solidFill>
                  <a:srgbClr val="ffff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ffccff"/>
              </a:solidFill>
              <a:latin typeface="Tahoma"/>
            </a:endParaRPr>
          </a:p>
        </p:txBody>
      </p:sp>
      <p:pic>
        <p:nvPicPr>
          <p:cNvPr id="156" name="Picture 5" descr="E:\课件\无土栽培技术\无土\80.tif"/>
          <p:cNvPicPr/>
          <p:nvPr/>
        </p:nvPicPr>
        <p:blipFill>
          <a:blip r:embed="rId1"/>
          <a:srcRect l="28866" t="28908" r="7731" b="53174"/>
          <a:stretch/>
        </p:blipFill>
        <p:spPr>
          <a:xfrm>
            <a:off x="609480" y="1600200"/>
            <a:ext cx="7620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7160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  <a:ea typeface="宋体"/>
              </a:rPr>
              <a:t>三、组织培养育苗</a:t>
            </a:r>
            <a:br>
              <a:rPr sz="4400"/>
            </a:b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428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植物组织培养的理论基础是植物细胞具有全能性，即单细胞经人工培养，通过细胞分裂而恢复完整植株，并具有原植物的全部遗传性。它是以植物生理学为基础发展起来的一项技术。本书所指的组织培养，是应用无菌操作的方法，培养植物的一个离体器官、组织或细胞，如叶、芽、茎等，在人工控制的条件下繁殖育苗的一种方法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组织培养育苗的步骤：</a:t>
            </a:r>
            <a:endParaRPr b="0" lang="en-US" sz="28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取材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芽、茎段、根等器官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一将试材用流动的自来水冲洗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—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小时一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7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％的酒精灭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秒一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．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％的氯化汞灭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8—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分钟一无菌水冲洗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遍一接种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根据外植体种类不同决定大小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，要求在无菌条件下操作一分化培养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25℃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一增殖培养一诱导生根一炼苗一移栽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从酒精消毒开始，整个过程都在无菌条件下进行，培养温度根据植物种类而定，一般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0—28℃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，每天光照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小时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．氧气 </a:t>
            </a:r>
            <a:endParaRPr b="0" lang="en-US" sz="2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种子吸水后，呼吸作用加强，需要充足的氧气供应和良好的二氧化碳排放条件。此时如果基质的含水量过多，供氧不足，通气不畅，就会影响种子萌发，使种子窒息而死。但对于水生花卉来说，只需少量氧气就可供种子萌发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．光照</a:t>
            </a:r>
            <a:br>
              <a:rPr sz="2400"/>
            </a:br>
            <a:endParaRPr b="0" lang="en-US" sz="2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对于多数花卉种子，只要有充足的水分，适宜的温度和一定的氧气，有没有光照都可以发芽。但对于某些花卉来说，在发芽期间必须具备一定的光线才能萌发，这一类被称为好光性种子。如报春花、毛地黄等。反之在光照下不能萌发的称为嫌光性种子，如黑种草等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102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aff"/>
                </a:solidFill>
                <a:latin typeface="Times New Roman"/>
                <a:ea typeface="宋体"/>
              </a:rPr>
              <a:t>(</a:t>
            </a:r>
            <a:r>
              <a:rPr b="1" lang="zh-CN" sz="4400" spc="-1" strike="noStrike">
                <a:solidFill>
                  <a:srgbClr val="ff0aff"/>
                </a:solidFill>
                <a:latin typeface="Times New Roman"/>
                <a:ea typeface="宋体"/>
              </a:rPr>
              <a:t>二</a:t>
            </a:r>
            <a:r>
              <a:rPr b="1" lang="zh-CN" sz="4400" spc="-1" strike="noStrike">
                <a:solidFill>
                  <a:srgbClr val="ff0aff"/>
                </a:solidFill>
                <a:latin typeface="Times New Roman"/>
                <a:ea typeface="宋体"/>
              </a:rPr>
              <a:t>)</a:t>
            </a:r>
            <a:r>
              <a:rPr b="1" lang="zh-CN" sz="4400" spc="-1" strike="noStrike">
                <a:solidFill>
                  <a:srgbClr val="ff0aff"/>
                </a:solidFill>
                <a:latin typeface="Times New Roman"/>
                <a:ea typeface="宋体"/>
              </a:rPr>
              <a:t>育苗前的准备</a:t>
            </a:r>
            <a:br>
              <a:rPr sz="4400"/>
            </a:b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育苗开始前，对育苗场地，如温室、大棚和苗床等做好必要的安排和准备。育苗容器可选用育苗盘或育苗钵，基质可选用蛭石、河沙、泥炭、炭化稻壳、岩棉、锯末、炉渣等。播种前几天，将选用的基质填入床内，基质厚约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0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；用育苗盘或育苗钵育苗者，将基质填入以后，排放在苗床内。如果是冬春季节播种育苗，要在苗床填人基质后，喷浇透水，加温提温，使基质温度达到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5℃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左右，等待播种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aff"/>
                </a:solidFill>
                <a:latin typeface="Times New Roman"/>
                <a:ea typeface="宋体"/>
              </a:rPr>
              <a:t>(</a:t>
            </a:r>
            <a:r>
              <a:rPr b="1" lang="zh-CN" sz="4400" spc="-1" strike="noStrike">
                <a:solidFill>
                  <a:srgbClr val="ff0aff"/>
                </a:solidFill>
                <a:latin typeface="Times New Roman"/>
                <a:ea typeface="宋体"/>
              </a:rPr>
              <a:t>三</a:t>
            </a:r>
            <a:r>
              <a:rPr b="1" lang="zh-CN" sz="4400" spc="-1" strike="noStrike">
                <a:solidFill>
                  <a:srgbClr val="ff0aff"/>
                </a:solidFill>
                <a:latin typeface="Times New Roman"/>
                <a:ea typeface="宋体"/>
              </a:rPr>
              <a:t>)</a:t>
            </a:r>
            <a:r>
              <a:rPr b="1" lang="zh-CN" sz="4400" spc="-1" strike="noStrike">
                <a:solidFill>
                  <a:srgbClr val="ff0aff"/>
                </a:solidFill>
                <a:latin typeface="Times New Roman"/>
                <a:ea typeface="宋体"/>
              </a:rPr>
              <a:t>种子处理</a:t>
            </a:r>
            <a:br>
              <a:rPr sz="4400"/>
            </a:b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79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种子处理的目的在于促使种子快速萌发，防止病害传播。因种子性质不同，处理方法也不同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1.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容易发芽的种子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如仙客来、菊花、鸡冠花等很容易萌发，可以直接播种，也可以用温水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40℃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左右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浸种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小时后再播种。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．发芽困难的种子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有些花卉种子种皮坚硬，吸水困难，如梅、荷花、美人蕉等，这类种子在浸种前可以用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imes New Roman"/>
                <a:ea typeface="宋体"/>
              </a:rPr>
              <a:t>机械摩擦或用硫酸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等浸泡，当种皮刚一变软，立即用清水将硫酸冲洗干净，然后播种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ff"/>
              </a:solidFill>
              <a:latin typeface="Tahoma"/>
              <a:ea typeface="宋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．发芽迟缓的种子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如冬珊瑚、文竹、君子兰等种子出苗非常慢，需要在播种前催芽。先用温水浸种，待种子吸胀后平摊在湿纱布上，上面再盖湿毛巾或几层湿纱布，放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30℃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条件下催芽，每天连同纱布用温水冲洗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—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次，待种子裂嘴后播种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种子消毒常采用热水烫种或药剂浸种，如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4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％甲醛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福尔马林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)1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倍液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％高锰酸钾液浸泡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0—1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分钟，取出用清水冲洗净，有良好防病效果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02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aff"/>
                </a:solidFill>
                <a:latin typeface="Times New Roman"/>
                <a:ea typeface="宋体"/>
              </a:rPr>
              <a:t>(</a:t>
            </a:r>
            <a:r>
              <a:rPr b="1" lang="zh-CN" sz="4400" spc="-1" strike="noStrike">
                <a:solidFill>
                  <a:srgbClr val="ff0aff"/>
                </a:solidFill>
                <a:latin typeface="Times New Roman"/>
                <a:ea typeface="宋体"/>
              </a:rPr>
              <a:t>四</a:t>
            </a:r>
            <a:r>
              <a:rPr b="1" lang="zh-CN" sz="4400" spc="-1" strike="noStrike">
                <a:solidFill>
                  <a:srgbClr val="ff0aff"/>
                </a:solidFill>
                <a:latin typeface="Times New Roman"/>
                <a:ea typeface="宋体"/>
              </a:rPr>
              <a:t>)</a:t>
            </a:r>
            <a:r>
              <a:rPr b="1" lang="zh-CN" sz="4400" spc="-1" strike="noStrike">
                <a:solidFill>
                  <a:srgbClr val="ff0aff"/>
                </a:solidFill>
                <a:latin typeface="Times New Roman"/>
                <a:ea typeface="宋体"/>
              </a:rPr>
              <a:t>播种育苗方式</a:t>
            </a:r>
            <a:br>
              <a:rPr sz="4400"/>
            </a:b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．穴盘育苗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用一种有许多小孔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小孔呈上大下小的倒金字塔形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的育苗盘，在穴孔中盛泥炭和蛭石等混合基质，然后在其中播种育苗，一孔育一苗。依花卉种类的不同，可一次成苗或仅培育小苗供移  苗用。从穴盘填装基质、播种、覆盖；镇压到浇水等一系列作业都可以实行机械化、自动化操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见下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1:32:06Z</dcterms:created>
  <dc:creator>thtfpc user</dc:creator>
  <dc:description/>
  <dc:language>en-US</dc:language>
  <cp:lastModifiedBy>xbany</cp:lastModifiedBy>
  <dcterms:modified xsi:type="dcterms:W3CDTF">2019-06-17T09:33:12Z</dcterms:modified>
  <cp:revision>2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