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E11-C6BF-4CD4-8175-C5A8C4BF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AAE-8840-4CB0-8136-1A7FD393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176-AB6A-4F6A-9AED-C728918E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B13-DEAE-45E2-BD63-06A594D4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F023-5D3C-420C-8D5A-0DD78551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3523-DDBF-44A1-9323-BA3775EB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B378-47D9-4027-9912-1C2D8248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DADF-F46B-4E5E-B12A-530D1D3C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B378-E958-4203-AE05-51B7BE65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2768-9B67-42ED-A749-972D03C4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511C-ACF1-4BCB-B0B1-E23D6E32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7A6-AC9E-488C-8E81-5BC78FEB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B831-0F1A-4DC6-B078-B7F8F8C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B124-4094-4B6E-AA49-C2E9617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59AB-E2A4-4CBD-A661-9EA106E6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9361-21DC-4F4B-B994-FFFF0C7C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A40A-525B-4F8F-A656-C801C037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EFB-F3DD-426D-AFA2-8658A3A7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AE3-BE4A-4C0A-B88B-5736A007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158-49C2-4267-A549-9A8A1C20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00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9CD-04FB-4A07-8663-68BF0B6B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2AF-FBB4-488C-ADCF-8DF911F9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67F-2040-4414-9D4D-211FD8DA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63D-E42A-427E-ADD0-A8DBD66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6" descr="a_fin_03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A815-8DA2-4B4A-857E-593FCDE105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94840" indent="393120">
              <a:lnSpc>
                <a:spcPct val="150000"/>
              </a:lnSpc>
              <a:buClr>
                <a:srgbClr val="6f89f7"/>
              </a:buClr>
              <a:buSzPct val="95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294840" indent="393120">
              <a:lnSpc>
                <a:spcPct val="150000"/>
              </a:lnSpc>
              <a:buClr>
                <a:srgbClr val="40458c"/>
              </a:buClr>
              <a:buSzPct val="65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94840" indent="393120">
              <a:lnSpc>
                <a:spcPct val="150000"/>
              </a:lnSpc>
              <a:buClr>
                <a:srgbClr val="6f89f7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0" descr="a_fin_03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294840" indent="393120">
              <a:lnSpc>
                <a:spcPct val="150000"/>
              </a:lnSpc>
              <a:buClr>
                <a:srgbClr val="6f89f7"/>
              </a:buClr>
              <a:buSzPct val="95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294840" indent="393120">
              <a:lnSpc>
                <a:spcPct val="150000"/>
              </a:lnSpc>
              <a:buClr>
                <a:srgbClr val="40458c"/>
              </a:buClr>
              <a:buSzPct val="65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94840" indent="393120">
              <a:lnSpc>
                <a:spcPct val="150000"/>
              </a:lnSpc>
              <a:buClr>
                <a:srgbClr val="6f89f7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94840" indent="393120">
              <a:lnSpc>
                <a:spcPct val="150000"/>
              </a:lnSpc>
              <a:buClr>
                <a:srgbClr val="40458c"/>
              </a:buClr>
              <a:buSzPct val="6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C5E0-A171-46A6-BCDB-1255409B3300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彩云"/>
                <a:ea typeface="华文彩云"/>
              </a:rPr>
              <a:t>第六章  无土育苗技术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         </a:t>
            </a:r>
            <a:r>
              <a:rPr b="1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花卉育苗</a:t>
            </a:r>
            <a:br>
              <a:rPr sz="6000"/>
            </a:br>
            <a:endParaRPr b="0" lang="en-US" sz="4000" spc="-1" strike="noStrike">
              <a:solidFill>
                <a:srgbClr val="ffc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穴盘育苗自动生产线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02" name="Picture 5" descr="E:\课件\无土栽培技术\无土\73.tif"/>
          <p:cNvPicPr/>
          <p:nvPr/>
        </p:nvPicPr>
        <p:blipFill>
          <a:blip r:embed="rId1"/>
          <a:srcRect l="4125" t="0" r="5155" b="78883"/>
          <a:stretch/>
        </p:blipFill>
        <p:spPr>
          <a:xfrm>
            <a:off x="755640" y="22050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塑料钵育苗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沙砾培和现代的深液流水培技术中常用。如下图所示，做成侧面和底面有孔穴的硬质塑料钵，内装砾石或其他基质，容积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毫升，主要用作观叶类花卉的育苗，放在营养液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.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的育苗盆中进行育苗，以后直接定植到种植槽上的定植板孔穴中或花盆中，根随之从底部和侧面的小孔中伸入到营养液中或基质中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宋体"/>
              </a:rPr>
              <a:t>水培用各种成型塑料育苗钵</a:t>
            </a:r>
            <a:endParaRPr b="0" lang="en-US" sz="32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06" name="Picture 5" descr="E:\课件\无土栽培技术\无土\73.tif"/>
          <p:cNvPicPr/>
          <p:nvPr/>
        </p:nvPicPr>
        <p:blipFill>
          <a:blip r:embed="rId1"/>
          <a:srcRect l="0" t="67347" r="3922" b="8364"/>
          <a:stretch/>
        </p:blipFill>
        <p:spPr>
          <a:xfrm>
            <a:off x="826920" y="2421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泡沫小方块育苗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适用于某些深液流水培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F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培。用一种育苗专用的聚氨脂泡沫小方块平铺于育苗盘上，每小块中间切一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形隙缝，将已催芽的种子一个个嵌入隙缝中，然后向育苗盘中加入营养液，让其出苗、生长，到成苗后，一块块地分离，定植到种植槽中或花盆中，进行无土栽培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播种用泡沫育苗块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10" name="Picture 5" descr="E:\课件\无土栽培技术\无土\74.tif"/>
          <p:cNvPicPr/>
          <p:nvPr/>
        </p:nvPicPr>
        <p:blipFill>
          <a:blip r:embed="rId1"/>
          <a:srcRect l="52216" t="1751" r="3759" b="82054"/>
          <a:stretch/>
        </p:blipFill>
        <p:spPr>
          <a:xfrm>
            <a:off x="1447920" y="1905120"/>
            <a:ext cx="6248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岩棉块育苗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岩棉块育苗已被广泛应用于各种无土栽培之中，甚至有土栽培也开始应用。育苗用的岩棉块的形状和大小，可根据植物种类而定。一般有以下几种规格，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7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×7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等方块。较大的方块面上中央开有一个小方洞，用以嵌入一块小方块，小方洞的大小刚好与嵌入的小方块吻合，叫做“钵中钵”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岩棉块育苗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14" name="Picture 5" descr="E:\课件\无土栽培技术\无土\74.tif"/>
          <p:cNvPicPr/>
          <p:nvPr/>
        </p:nvPicPr>
        <p:blipFill>
          <a:blip r:embed="rId1"/>
          <a:srcRect l="15303" t="52193" r="17205" b="13391"/>
          <a:stretch/>
        </p:blipFill>
        <p:spPr>
          <a:xfrm>
            <a:off x="1447920" y="22096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基菲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Jiffy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育苗小块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由挪威生产的一种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泥炭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纸浆，再加上一些化肥和胶粘剂压缩成圆形的小块，外面包以有弹性的尼龙网状物，直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，厚仅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毫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见下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使用时，将其放人盘中喷水或底面渗水使其膨胀，膨大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高的钵状育苗块，即可播种或移苗。当幼苗根系穿出尼龙网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约生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就可定植。主要用于种子繁殖的名贵花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宋体"/>
              </a:rPr>
              <a:t>基菲育苗小块</a:t>
            </a:r>
            <a:endParaRPr b="0" lang="en-US" sz="32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18" name="Picture 5" descr="E:\课件\无土栽培技术\无土\75.tif"/>
          <p:cNvPicPr/>
          <p:nvPr/>
        </p:nvPicPr>
        <p:blipFill>
          <a:blip r:embed="rId1"/>
          <a:srcRect l="69482" t="39066" r="16760" b="47578"/>
          <a:stretch/>
        </p:blipFill>
        <p:spPr>
          <a:xfrm>
            <a:off x="1371600" y="1676520"/>
            <a:ext cx="5943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营养液及其供给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无土育苗营养液依基质种类、育苗方式和花卉种类等的不同有多种配方，现介绍如下几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配方一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尿素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50—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磷酸二氢钾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镁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钙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配方二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硝酸铵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硝酸钾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镁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过磷酸钙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配方三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00—7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硝酸铵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磷酸二氢钾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硫酸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一、播种育苗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一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种子发芽所需的环境条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水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花卉种子成熟后，大多以干燥状态进行贮藏。种子萌发首先需要吸收充足的水分，如豆科花卉香豌豆可吸收相当原来种子实际重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水量。种子吸水膨胀后，种皮破裂，呼吸强度增大，蛋白质及淀粉等贮藏物开始加速转化为合成代谢的原料和能量，胚吸收这些物质合成新的细胞生长所需的物质，促使细胞分裂和生长。这些过程都要有充足的水分才能进行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以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配方，可根据化肥来源任选一种，除上述主要营养元素外，必要时还需加入微量元素。常用配方中加入的微量元素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升水中，加入硼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、硫酸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0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穴盘育苗也可用复合肥配成的营养液进行喷灌。复合肥在子叶期可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浓度，长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片真叶以后浓度提高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供液与供水结合进行。机械化育苗，面积大的可采用双臂流动式喷水管道，悬挂于温室顶架上，可来回移动喷水或喷液。夏天气温高，每天喷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，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天喷液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；冬季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—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天喷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喷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喷营养液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另一种方式是底部供液法。传统的方法是把水或营养液蓄在育苗床内，床底铺黑色聚乙烯薄膜做衬垫，并使床内经常能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左右的营养液。冬季育苗需加温，如图所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还有一种较理想的供液方法，即在育苗床面铺上一条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毫米的亲水无纺布垫在岩棉育苗块底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左右的一边，再用滴灌的方法向无纺布滴液，再通过无纺布的毛管作用将营养液传到岩棉块中去。此法的供液效果较浇液法和浸液法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宋体"/>
              </a:rPr>
              <a:t>育苗床的构造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25" name="Picture 5" descr="E:\课件\无土栽培技术\无土\76.tif"/>
          <p:cNvPicPr/>
          <p:nvPr/>
        </p:nvPicPr>
        <p:blipFill>
          <a:blip r:embed="rId1"/>
          <a:srcRect l="13687" t="25859" r="34938" b="51176"/>
          <a:stretch/>
        </p:blipFill>
        <p:spPr>
          <a:xfrm>
            <a:off x="539640" y="1773360"/>
            <a:ext cx="8077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六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育苗期的环境调控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光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光照强度是影响光合作用的重要因素，同时也影响幼苗叶温。冬春季节光照弱，应加大幼苗株行距，以免相互遮光，苗木  生长细弱。必要时需要进行人工补光。夏季育苗，为降低叶温和根际温度，要进行遮光降温或喷雾降温。温室、大棚可用遮阳网遮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温度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播种后，温度控制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之间，空气相对湿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以上，绝大多数花卉种子，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天即可出苗。出苗后温度应随着苗的生长而逐渐下降，白天保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8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夜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—18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基质和营养液的温度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空气温度过高时应适当通风。定植前要降低温度进行炼苗。冬季可进行加温育苗，夏季要降温育苗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无土育苗，除了对环境温度、，光照、水分和营养进行严格调节外，也可以进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施肥，以培育壮苗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344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宋体"/>
              </a:rPr>
              <a:t>二、扦插育苗</a:t>
            </a:r>
            <a:r>
              <a:rPr b="0" lang="zh-CN" sz="4400" spc="-1" strike="noStrike">
                <a:solidFill>
                  <a:srgbClr val="00ff00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扦插的种类及方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叶插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凡是能自叶上发生不定芽及不定根的种类，均可用叶插法繁殖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适合叶插繁殖的花卉，大都具有粗壮的叶柄、叶脉或肥厚的叶片。常用叶插繁殖的花卉有落地生根、石莲花、景天树、椒草、千岁兰、虎皮兰、蟆叶秋海棠等。具体方法见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宋体"/>
              </a:rPr>
              <a:t>叶     插</a:t>
            </a:r>
            <a:endParaRPr b="0" lang="en-US" sz="32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33" name="Picture 5" descr="E:\课件\无土栽培技术\无土\78.tif"/>
          <p:cNvPicPr/>
          <p:nvPr/>
        </p:nvPicPr>
        <p:blipFill>
          <a:blip r:embed="rId1"/>
          <a:srcRect l="18595" t="21888" r="40664" b="54175"/>
          <a:stretch/>
        </p:blipFill>
        <p:spPr>
          <a:xfrm>
            <a:off x="971640" y="191628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5796000" y="2133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螟叶秋海棠叶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156360" y="3284640"/>
            <a:ext cx="22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大岩桐叶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448320" y="4437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千岁兰叶插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茎插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也叫枝插。分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软枝扦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硬枝扦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软枝扦插主要用于温室花卉和常绿花木，如天竺葵、秋海棠类、倒挂金钟、彩叶草、茉莉、杜鹃、含笑、夹竹桃等。一般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—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月间进行。选取当年生健壮充实带叶的枝条作插穗，过于柔嫩的枝条易腐烂，过老的枝条则不易生根。插穗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，至少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个芽，剪去下部叶片，保留上部叶片或酌情剪掉一部分，以减少蒸发。随剪随插成活率最高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硬枝扦插多用于落叶花木，如石榴、月季、木槿、一晶红、迎春、葡萄等。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年生健壮枝条作插穗，入冬前沙藏在窖里，春季扦插，或在温室内提前扦插。插穗选取枝条中段，芽饱满处，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，插入准备好的基质中，深度为插穗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—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根插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有些花卉根上能长出不定芽，可用根插繁殖。如芍药、荷包牡丹、宿根福禄考、荷兰菊等。其他花卉很少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不论采取哪种扦插方法，插后都要浇足水，最好采取喷雾法浇水，再在扦插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上覆盖塑料薄膜，以保持一定的温度和  较高的空气湿度，置于半阴处，待生根后再移植培养或定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温度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476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花卉种子萌发的适宜温度，依种类及原产地的不同而异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一般来说，花卉种子的萌发适温比其生育适温高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5℃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。原产温带的花卉多数种类的萌芽适温为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5℃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，温度过低不易发芽，过高引起腐烂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些热带花卉种子要在较高的温度下才能萌发，如王莲。播种时，基质温度最好保持相对稳定，变化的幅度不要超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扦插基质</a:t>
            </a:r>
            <a:br>
              <a:rPr sz="28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31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除选好插穗外，基质选择十分重要。一般要求基质既要排水良好，又要有一定的保水性。常用作扦插繁殖的无土基质有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河沙、蛭石、珍珠岩、泥炭、炉渣、锯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有些花卉用沙作为扦插基质效果不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一晶红、菊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但对一些难生根的花卉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杜鹃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选用锯末或珍珠岩复合基质往往容易成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基质在使用前最好进行消毒灭菌，可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高锰酸钾处理后覆盖一夜，即可杀死大部分病菌和虫卵。扦插后，每周可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稀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倍的代森锰锌等杀菌剂，效果更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影响扦插生根的环境条件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温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花卉的种类不同，要求的扦插生根最适温度也不同，大多数花卉扦插的适温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热带、亚热带植物则需要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—3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高温下才能扦插成活，而一些耐寒性花卉和硬枝扦插可稍低些。基质温度稍高于气温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可促使根的发生，气温低则有抑制枝叶生长的作用。因此，在特制的扦插床或扦插箱底部设有加温设施，以促进提早生根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1383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湿度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湿度包括基质湿度和空气湿度。插穗只有在湿润的基质中才能生根，基质中适宜水分的含量，依花卉种类的不同而异，通常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基质含水量为适度。扦插初期，水分较多则有利于愈伤组织形成；愈伤组织形成后，应减少水分，水分过多常导致插穗腐烂。为了避免插穗枝叶中水分过分蒸腾，要求保持较高的空气湿度，通常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空气相对湿度为宜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光照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叶芽插和软枝扦插常带有芽和叶片，并在日光下进行光合作用，从而产生生长素并促进插穗生根。此外，光照还能提高基质温度。但夏季过强的日光会使棚室内的气温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以上，对插穗成活极为不利，甚至会烧死插穗。因此，需适当遮阴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氧气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当愈伤组织及新根发生时，呼吸作用增强，因此要求扦插基质具备良好的供氧条件。理想的扦插基质既能保持湿润，同时通气良好。如果采用自动喷雾装置，可采取气插育苗，生根快，效果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植物生长素类在花卉扦插上的应用</a:t>
            </a:r>
            <a:br>
              <a:rPr sz="3200"/>
            </a:b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在花卉扦插繁殖中，对一些难生根的花卉常采用植物生长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激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类进行处理，以促进插穗生根。常用的药剂有吲哚乙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吲哚丁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奈乙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A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-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B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生根粉等。处理方法有粉剂处理、液剂处理、脂剂处理、对采条母株的喷施或注射以及扦插基质的处理等，以粉剂和液剂处理为多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常见花卉扦插繁殖使用激素种类及处理方法见表</a:t>
            </a: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pic>
        <p:nvPicPr>
          <p:cNvPr id="156" name="Picture 5" descr="E:\课件\无土栽培技术\无土\80.tif"/>
          <p:cNvPicPr/>
          <p:nvPr/>
        </p:nvPicPr>
        <p:blipFill>
          <a:blip r:embed="rId1"/>
          <a:srcRect l="28866" t="28908" r="7731" b="53174"/>
          <a:stretch/>
        </p:blipFill>
        <p:spPr>
          <a:xfrm>
            <a:off x="609480" y="160020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宋体"/>
              </a:rPr>
              <a:t>三、组织培养育苗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28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植物组织培养的理论基础是植物细胞具有全能性，即单细胞经人工培养，通过细胞分裂而恢复完整植株，并具有原植物的全部遗传性。它是以植物生理学为基础发展起来的一项技术。本书所指的组织培养，是应用无菌操作的方法，培养植物的一个离体器官、组织或细胞，如叶、芽、茎等，在人工控制的条件下繁殖育苗的一种方法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组织培养育苗的步骤：</a:t>
            </a:r>
            <a:endParaRPr b="0" lang="en-US" sz="28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取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芽、茎段、根等器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将试材用流动的自来水冲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时一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酒精灭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秒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的氯化汞灭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8—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分钟一无菌水冲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遍一接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根据外植体种类不同决定大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要求在无菌条件下操作一分化培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25℃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一增殖培养一诱导生根一炼苗一移栽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从酒精消毒开始，整个过程都在无菌条件下进行，培养温度根据植物种类而定，一般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0—28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每天光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时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氧气 </a:t>
            </a: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子吸水后，呼吸作用加强，需要充足的氧气供应和良好的二氧化碳排放条件。此时如果基质的含水量过多，供氧不足，通气不畅，就会影响种子萌发，使种子窒息而死。但对于水生花卉来说，只需少量氧气就可供种子萌发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光照</a:t>
            </a:r>
            <a:br>
              <a:rPr sz="2400"/>
            </a:br>
            <a:endParaRPr b="0" lang="en-US" sz="2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对于多数花卉种子，只要有充足的水分，适宜的温度和一定的氧气，有没有光照都可以发芽。但对于某些花卉来说，在发芽期间必须具备一定的光线才能萌发，这一类被称为好光性种子。如报春花、毛地黄等。反之在光照下不能萌发的称为嫌光性种子，如黑种草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(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二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)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育苗前的准备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育苗开始前，对育苗场地，如温室、大棚和苗床等做好必要的安排和准备。育苗容器可选用育苗盘或育苗钵，基质可选用蛭石、河沙、泥炭、炭化稻壳、岩棉、锯末、炉渣等。播种前几天，将选用的基质填入床内，基质厚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厘米；用育苗盘或育苗钵育苗者，将基质填入以后，排放在苗床内。如果是冬春季节播种育苗，要在苗床填人基质后，喷浇透水，加温提温，使基质温度达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左右，等待播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(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三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)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种子处理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子处理的目的在于促使种子快速萌发，防止病害传播。因种子性质不同，处理方法也不同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容易发芽的种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仙客来、菊花、鸡冠花等很容易萌发，可以直接播种，也可以用温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4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左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浸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时后再播种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发芽困难的种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有些花卉种子种皮坚硬，吸水困难，如梅、荷花、美人蕉等，这类种子在浸种前可以用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机械摩擦或用硫酸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等浸泡，当种皮刚一变软，立即用清水将硫酸冲洗干净，然后播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ff"/>
              </a:solidFill>
              <a:latin typeface="Tahoma"/>
              <a:ea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．发芽迟缓的种子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如冬珊瑚、文竹、君子兰等种子出苗非常慢，需要在播种前催芽。先用温水浸种，待种子吸胀后平摊在湿纱布上，上面再盖湿毛巾或几层湿纱布，放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30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条件下催芽，每天连同纱布用温水冲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次，待种子裂嘴后播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种子消毒常采用热水烫种或药剂浸种，如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甲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福尔马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1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倍液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％高锰酸钾液浸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10—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分钟，取出用清水冲洗净，有良好防病效果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(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四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)</a:t>
            </a:r>
            <a:r>
              <a:rPr b="1" lang="zh-CN" sz="4400" spc="-1" strike="noStrike">
                <a:solidFill>
                  <a:srgbClr val="ff0aff"/>
                </a:solidFill>
                <a:latin typeface="Times New Roman"/>
                <a:ea typeface="宋体"/>
              </a:rPr>
              <a:t>播种育苗方式</a:t>
            </a:r>
            <a:br>
              <a:rPr sz="4400"/>
            </a:br>
            <a:endParaRPr b="0" lang="en-US" sz="4400" spc="-1" strike="noStrike">
              <a:solidFill>
                <a:srgbClr val="ffcc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．穴盘育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用一种有许多小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小孔呈上大下小的倒金字塔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的育苗盘，在穴孔中盛泥炭和蛭石等混合基质，然后在其中播种育苗，一孔育一苗。依花卉种类的不同，可一次成苗或仅培育小苗供移  苗用。从穴盘填装基质、播种、覆盖；镇压到浇水等一系列作业都可以实行机械化、自动化操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见下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1:32:06Z</dcterms:created>
  <dc:creator>thtfpc user</dc:creator>
  <dc:description/>
  <dc:language>en-US</dc:language>
  <cp:lastModifiedBy>xbany</cp:lastModifiedBy>
  <dcterms:modified xsi:type="dcterms:W3CDTF">2019-06-17T09:33:12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