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13.gif" ContentType="image/gif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</p:sldIdLst>
  <p:sldSz cx="9144000" cy="6858000"/>
  <p:notesSz cx="6858000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49340-0F7A-437C-A12D-4CBF6471BB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AE977-CBCA-413E-90DB-D8D81B7A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4E5D8-293D-44F9-8FDE-39AF1812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AD4A0-396D-4345-99BD-E6187114C0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BF598-F8DD-417B-BDB6-D83156BA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E8195-8F85-492E-96CF-96160C23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E71A8-C379-4B3E-A604-E700221D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6EF09-797B-4ED7-B398-4DB95E24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39636-8469-4FBB-8722-C101809D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7C24E-E9E3-49B0-B346-260BBBA1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2BE8E-2023-4D6A-9989-FEA42681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18355-04D9-4313-8870-86B14F67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5D146-6F4B-4AE9-8AA7-4F627391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11802-87D9-4E73-A739-04B1299E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7B1B2-636C-484A-AD01-E44D1DFF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7665C-4FD6-4BD8-958B-30C4C145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8CBD3-8769-4924-9E2F-903EE62A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42688-57ED-47CC-8BE6-0FE67BBB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48E60-B08E-4608-8DC0-D344B35A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9CA2B-E4DF-48FE-858B-BF246601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4E3D8-EA48-4AD5-BF67-F4A55249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039C9-7CF7-44C5-A871-ED11F4DB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ACC02-F51A-4898-81C8-19957136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0B7D1-C1F0-4B06-BB5E-308470CE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46053-DF7C-4937-8D63-DF32FA52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46448-E5A0-4F24-B9A3-B1CD5B92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23A8D-F04B-4C55-A7E0-E41ADE66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31AF37-846E-4E8C-A23E-F2836931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8B3C5-BD9B-454F-B7BD-2BDAB2FE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E4B12-DF92-4D50-B636-67151A88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146693-A239-4EE0-8F5C-3E551BEC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4EA11A-8497-4E02-BF6B-50EFF064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AACFB-2088-48F6-9FDE-848CC9BD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4BAA2-F560-45DD-8162-C80F1E6E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721871-DAB4-44C8-8B22-C834272E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26CCD8-DFB7-41AF-93F8-8B97AECC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49D06C-6A68-47CF-86B6-5D1DC40D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F27F02-870C-4D8F-87AA-7739BB15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566AFA-13F2-442F-BB95-16277065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B9A0E9-4CFB-4030-B2FB-384E3D49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8603B7-2FC3-445C-937A-E96681CC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500CFD-13B9-4ADC-9E3B-0AF018B3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33663A-F97C-4E74-A4CE-37978E7B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B0C1D-1DC9-4951-938C-06E0EA1E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10C68-9B98-427B-AF64-0FABAC7A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18B015-40E0-4B1F-871F-782FDE3A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35990E-2D41-4D85-938B-EEC73296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F3523A-81D6-4A57-BAD7-48CBD091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CA350-D37C-49E0-AE86-323835AD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2566E4-13D4-4E3D-9791-C7F21CC7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A42E01-E369-4D1F-8BAA-9EA04E95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0778BB-8B31-4097-A7D3-C14E6109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10B2D2-75E7-4386-A1F7-0F2D8937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8ECA8E-FD7B-4D0A-9F75-5DCAEB07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39A940-5BDD-4FB2-8080-3FA87163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628BD-AEBA-4609-B340-E028EE7D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F7CAAD-0B8B-4972-9673-A3C2941E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A59A2B-C2CA-4075-BA57-9CD30DA2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BFA375-9BA8-47EE-8E22-4BFC1DCB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4C0A99-C6E5-40B6-967F-350371CB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B056F-2CD6-4055-8002-F0A0DB78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ACD967-4F77-41A2-AE4D-5EABA063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6721D7-DA01-4A41-A5E6-B7333425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F0F9A8-69E6-4521-9689-11631707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A52323-59EE-47E6-B974-8D5AF1ED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5E7939-7021-423D-B924-16BD7E77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0E523-E02D-403A-9E5D-E594E080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A81174-C9EC-4DC5-BF55-567CB23C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A19B1D-CC5C-47B8-A29B-65655E57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F123CF-B77F-44ED-A1F1-3009A718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480943-8F66-496B-813A-50ACD649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FFABE5-B7D7-4617-9969-2562C64D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0FAF00-1122-4976-B6F7-693CB14A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26DCAE-D027-441C-AECF-95351622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0E0830-476E-4693-B716-1A8A1156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DB069B-63CC-405E-B96C-AF31F2AA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87E4EA-9F88-4473-AE4B-F644ED32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002F5-CFD1-4A72-BC37-86705805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5087EC-92BE-47D3-A93A-2A327C5E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545027-8504-470D-867A-DFDA282E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49D906-1DD9-404B-941F-3B2EB915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365069-F1F3-4E2B-9E63-8EF70CE4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E431B4-3E22-4B44-B518-4C3C9FAB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CCEA3B-349D-4DA6-BFD5-093E07A7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34BEA3-3FA0-49F4-B9A2-350E5135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0B4562-2204-4D1D-90EF-BC278C51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E1113F-3413-48A6-8B4F-57D7061F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8CA182-17EF-48BE-AFF8-BE9D137D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A719E-FD1B-4750-AB3E-8CBEBFBE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585575-9F4F-463E-AE45-113F088C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FDC253-1CB2-4821-BBDE-CAD8F3A3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C034A5-6234-4467-A4FE-2D6E9B51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33FC7E-D162-449A-B194-1C258093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325EF4-85FB-4AC7-B014-5488BC11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596C5B-A620-4AC1-B294-C63909BC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3A3560-0FA1-496D-993D-33CE7E9F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4400" y="5950080"/>
            <a:ext cx="9129600" cy="90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29600" cy="90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0" y="6381360"/>
            <a:ext cx="1116000" cy="47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AD8A-AE8C-4D43-94A4-9E3B5664698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8244000" y="6381360"/>
            <a:ext cx="900000" cy="476280"/>
          </a:xfrm>
          <a:prstGeom prst="rect">
            <a:avLst/>
          </a:prstGeom>
          <a:solidFill>
            <a:srgbClr val="ffffff"/>
          </a:solidFill>
          <a:ln w="57240">
            <a:solidFill>
              <a:srgbClr val="6666ff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A4D1-88E5-4404-A5C4-C7C788789144}" type="slidenum"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3419640" y="189000"/>
            <a:ext cx="25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环境生物学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第一章</a:t>
            </a:r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439E-D632-47A6-A42B-29DBB268185C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D3F8-1708-4A9D-B222-1CDF90B9651C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4400" y="5950080"/>
            <a:ext cx="9129600" cy="90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0"/>
            <a:ext cx="9129600" cy="90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419640" y="189000"/>
            <a:ext cx="25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环境生物学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第一章</a:t>
            </a:r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93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4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95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97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D7F3-437F-4636-8A98-944FDA1FFE76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DC2E-BE68-4542-A522-6012AE2E5CB3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1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2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4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5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E3B2-8D78-4753-A7C2-0E9B9AFCAD4D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726B-ECB0-4C18-8B66-CCA433750293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188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9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191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192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193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0822-9532-4F85-927D-84C4F54CE5D1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B0EF-4F07-4DB7-9AA6-FA4DD92B02C7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236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7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40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E502-73DE-45AB-9BB9-028B08E03F1F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95B9-185C-44B0-97BF-13E7B85BC206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284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8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8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8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D752-D620-42C2-9EFE-F0675D32C5B1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A045-5C5A-44E1-BA03-C031153BADF4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332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33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33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99EC-5437-4CDC-ACEE-56851DE61D0A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E0A8-122B-4DB1-8F95-6C0230C0A0C3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iphotos.baidu.com/nanbin/pic/item/7b05839437e5e814d21b7008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0319-27A8-423C-B379-0E3A335734C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49E4-83C4-41E1-8825-4D6B6FAD9E66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0" y="170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物对污染物在环境中行为的影响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A3C1-165B-4DFB-A964-56EA1CE54A5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1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CB2E-AE25-4C85-B940-1B2143C9E54D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18" name="Picture 2" descr="W020070531561410488810"/>
          <p:cNvPicPr/>
          <p:nvPr/>
        </p:nvPicPr>
        <p:blipFill>
          <a:blip r:embed="rId1"/>
          <a:stretch/>
        </p:blipFill>
        <p:spPr>
          <a:xfrm>
            <a:off x="1692360" y="119700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3"/>
          <p:cNvSpPr/>
          <p:nvPr/>
        </p:nvSpPr>
        <p:spPr>
          <a:xfrm>
            <a:off x="3200400" y="838080"/>
            <a:ext cx="39625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蓝藻漂浮的无锡十八湾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50AA-B1D4-4EA9-BAC9-8CE9CA874A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1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891E-B09B-4A24-8B55-15A826BD3ED7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22" name="Picture 2" descr="W020070531561410653915"/>
          <p:cNvPicPr/>
          <p:nvPr/>
        </p:nvPicPr>
        <p:blipFill>
          <a:blip r:embed="rId1"/>
          <a:stretch/>
        </p:blipFill>
        <p:spPr>
          <a:xfrm>
            <a:off x="1981080" y="1600200"/>
            <a:ext cx="5639040" cy="4229280"/>
          </a:xfrm>
          <a:prstGeom prst="rect">
            <a:avLst/>
          </a:prstGeom>
          <a:ln w="0">
            <a:noFill/>
          </a:ln>
        </p:spPr>
      </p:pic>
      <p:sp>
        <p:nvSpPr>
          <p:cNvPr id="423" name="AutoShape 3"/>
          <p:cNvSpPr/>
          <p:nvPr/>
        </p:nvSpPr>
        <p:spPr>
          <a:xfrm>
            <a:off x="2786040" y="533520"/>
            <a:ext cx="5138640" cy="1066680"/>
          </a:xfrm>
          <a:prstGeom prst="cloudCallout">
            <a:avLst>
              <a:gd name="adj1" fmla="val -38254"/>
              <a:gd name="adj2" fmla="val 69939"/>
            </a:avLst>
          </a:prstGeom>
          <a:solidFill>
            <a:srgbClr val="cc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沿湖岸的石墙堤处都涂满了绿色的蓝藻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4EBA-2B5B-4AEE-9523-5FCC93552FB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5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4654-2EC4-44DE-AB1E-C8DE472ED43F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26" name="Picture 2" descr="W020070531561411762932"/>
          <p:cNvPicPr/>
          <p:nvPr/>
        </p:nvPicPr>
        <p:blipFill>
          <a:blip r:embed="rId1"/>
          <a:stretch/>
        </p:blipFill>
        <p:spPr>
          <a:xfrm>
            <a:off x="3124080" y="2286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27" name="AutoShape 3"/>
          <p:cNvSpPr/>
          <p:nvPr/>
        </p:nvSpPr>
        <p:spPr>
          <a:xfrm>
            <a:off x="1905120" y="380880"/>
            <a:ext cx="6172200" cy="1828800"/>
          </a:xfrm>
          <a:prstGeom prst="cloudCallout">
            <a:avLst>
              <a:gd name="adj1" fmla="val 14324"/>
              <a:gd name="adj2" fmla="val 105037"/>
            </a:avLst>
          </a:prstGeom>
          <a:solidFill>
            <a:srgbClr val="ff990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无锡十八湾太湖边部分水域积聚了大量的蓝藻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E0DE-53D6-4D17-AA08-6741159607A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9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E566-EB7D-4755-994F-F5A1A922D0AD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30" name="Picture 2" descr="W020070531561411898899"/>
          <p:cNvPicPr/>
          <p:nvPr/>
        </p:nvPicPr>
        <p:blipFill>
          <a:blip r:embed="rId1"/>
          <a:stretch/>
        </p:blipFill>
        <p:spPr>
          <a:xfrm>
            <a:off x="1905120" y="114300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431" name="AutoShape 3"/>
          <p:cNvSpPr/>
          <p:nvPr/>
        </p:nvSpPr>
        <p:spPr>
          <a:xfrm>
            <a:off x="3657600" y="304920"/>
            <a:ext cx="2743200" cy="838080"/>
          </a:xfrm>
          <a:prstGeom prst="cloudCallout">
            <a:avLst>
              <a:gd name="adj1" fmla="val -44962"/>
              <a:gd name="adj2" fmla="val 70074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锡十八湾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7451-D043-4BBE-9DAC-A6903F8EB96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33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92F6-C4CD-4535-8F8D-8C111610D786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34" name="Picture 2" descr="W020070531561412078148"/>
          <p:cNvPicPr/>
          <p:nvPr/>
        </p:nvPicPr>
        <p:blipFill>
          <a:blip r:embed="rId1"/>
          <a:stretch/>
        </p:blipFill>
        <p:spPr>
          <a:xfrm>
            <a:off x="1763640" y="134136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435" name="AutoShape 3"/>
          <p:cNvSpPr/>
          <p:nvPr/>
        </p:nvSpPr>
        <p:spPr>
          <a:xfrm>
            <a:off x="2133720" y="228600"/>
            <a:ext cx="4343400" cy="1219320"/>
          </a:xfrm>
          <a:prstGeom prst="cloudCallout">
            <a:avLst>
              <a:gd name="adj1" fmla="val 21601"/>
              <a:gd name="adj2" fmla="val 220050"/>
            </a:avLst>
          </a:prstGeom>
          <a:solidFill>
            <a:srgbClr val="cc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景观桥下堆积着厚厚的蓝藻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4D32-4EEA-4826-B227-5CE45C69186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3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A297-75DE-4351-8ACF-46E5A5B8D5E1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38" name="Picture 3" descr="7b05839437e5e814d21b70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05264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7e3abea14a35e7814710640d"/>
          <p:cNvPicPr/>
          <p:nvPr/>
        </p:nvPicPr>
        <p:blipFill>
          <a:blip r:embed="rId3"/>
          <a:stretch/>
        </p:blipFill>
        <p:spPr>
          <a:xfrm>
            <a:off x="0" y="1052640"/>
            <a:ext cx="4535640" cy="354636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5"/>
          <p:cNvSpPr/>
          <p:nvPr/>
        </p:nvSpPr>
        <p:spPr>
          <a:xfrm>
            <a:off x="6948360" y="404640"/>
            <a:ext cx="1943280" cy="719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水葫芦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0" y="4724280"/>
            <a:ext cx="9144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滇池、太湖、黄浦江及武汉东湖等著名水体，均出现过水葫芦泛滥成灾的情况，耗费巨资也无法根治。水葫芦给滇池造成损失的案例是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入侵物种危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经典案例之一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日期占位符 2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3F3D-7A55-4AC6-AC20-1CD51A77DC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43" name="灯片编号占位符 3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7196-2B22-4069-B97F-C2AEEF6C601B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44" name="Picture 6" descr="01300000336597127012446380852"/>
          <p:cNvPicPr/>
          <p:nvPr/>
        </p:nvPicPr>
        <p:blipFill>
          <a:blip r:embed="rId1"/>
          <a:stretch/>
        </p:blipFill>
        <p:spPr>
          <a:xfrm>
            <a:off x="0" y="549360"/>
            <a:ext cx="8496360" cy="566424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8"/>
          <p:cNvSpPr/>
          <p:nvPr/>
        </p:nvSpPr>
        <p:spPr>
          <a:xfrm>
            <a:off x="395280" y="836640"/>
            <a:ext cx="424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人工打捞水葫芦</a:t>
            </a: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3C76-8C1E-4955-9934-1980EB4716A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4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ED85-9223-4B7D-B837-58335913CB63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48" name="Text Box 2"/>
          <p:cNvSpPr/>
          <p:nvPr/>
        </p:nvSpPr>
        <p:spPr>
          <a:xfrm>
            <a:off x="1116000" y="189000"/>
            <a:ext cx="6408720" cy="581400"/>
          </a:xfrm>
          <a:prstGeom prst="rect">
            <a:avLst/>
          </a:prstGeom>
          <a:solidFill>
            <a:srgbClr val="008080"/>
          </a:solidFill>
          <a:ln w="34920">
            <a:solidFill>
              <a:srgbClr val="ff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（三）微生物代谢产物与环境污染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900000" y="1197000"/>
            <a:ext cx="7062840" cy="149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硫化氢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低浓度：恶臭，污水处理厂污泥等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高浓度：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进入下水道的工人中毒和窒息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76720" y="3357720"/>
            <a:ext cx="2232000" cy="1081080"/>
          </a:xfrm>
          <a:prstGeom prst="rightArrow">
            <a:avLst>
              <a:gd name="adj1" fmla="val 50000"/>
              <a:gd name="adj2" fmla="val 51615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反硫化细菌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1" name="Oval 5"/>
          <p:cNvSpPr/>
          <p:nvPr/>
        </p:nvSpPr>
        <p:spPr>
          <a:xfrm>
            <a:off x="1476360" y="3500280"/>
            <a:ext cx="1873440" cy="71928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2" name="Oval 6"/>
          <p:cNvSpPr/>
          <p:nvPr/>
        </p:nvSpPr>
        <p:spPr>
          <a:xfrm>
            <a:off x="5435640" y="3429000"/>
            <a:ext cx="1801800" cy="71928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1403280" y="4365720"/>
            <a:ext cx="1873440" cy="71892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有机硫化物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4" name="Oval 8"/>
          <p:cNvSpPr/>
          <p:nvPr/>
        </p:nvSpPr>
        <p:spPr>
          <a:xfrm>
            <a:off x="5435640" y="4365720"/>
            <a:ext cx="1801800" cy="71892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5" name="AutoShape 9"/>
          <p:cNvSpPr/>
          <p:nvPr/>
        </p:nvSpPr>
        <p:spPr>
          <a:xfrm>
            <a:off x="3276720" y="4221000"/>
            <a:ext cx="2232000" cy="1081080"/>
          </a:xfrm>
          <a:prstGeom prst="rightArrow">
            <a:avLst>
              <a:gd name="adj1" fmla="val 50000"/>
              <a:gd name="adj2" fmla="val 51615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异养微生物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A338-D360-4011-AD67-5840C393A31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A518-8195-49EB-A449-15E1E9918639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755640" y="981000"/>
            <a:ext cx="7772400" cy="283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黑体"/>
              </a:rPr>
              <a:t>酸性矿水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产生：化学氧化和耐酸细菌的联合作用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值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大量金属离子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周围农田、植被和水生生物鱼类等受到威胁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A2A5-78D5-4251-8702-5FFEECA3CC1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A23F-649F-4292-9110-50FEDF669328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1" name="Text Box 2"/>
          <p:cNvSpPr/>
          <p:nvPr/>
        </p:nvSpPr>
        <p:spPr>
          <a:xfrm>
            <a:off x="457200" y="2819520"/>
            <a:ext cx="7705800" cy="162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182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情况下，环境中是不会积累亚硝酸的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182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腌制食品：含有大量的亚硝酸盐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182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硝酸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在人体内）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可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代谢产物胺类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发生反应生成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亚硝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亚硝胺是一种致癌物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2" name="Oval 3"/>
          <p:cNvSpPr/>
          <p:nvPr/>
        </p:nvSpPr>
        <p:spPr>
          <a:xfrm>
            <a:off x="1187280" y="907920"/>
            <a:ext cx="1873440" cy="71928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NO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3" name="AutoShape 4"/>
          <p:cNvSpPr/>
          <p:nvPr/>
        </p:nvSpPr>
        <p:spPr>
          <a:xfrm>
            <a:off x="2987640" y="836640"/>
            <a:ext cx="2521080" cy="1081080"/>
          </a:xfrm>
          <a:prstGeom prst="rightArrow">
            <a:avLst>
              <a:gd name="adj1" fmla="val 50000"/>
              <a:gd name="adj2" fmla="val 58300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还原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4" name="Oval 5"/>
          <p:cNvSpPr/>
          <p:nvPr/>
        </p:nvSpPr>
        <p:spPr>
          <a:xfrm>
            <a:off x="5219640" y="981000"/>
            <a:ext cx="1873440" cy="71928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NO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5" name="Oval 6"/>
          <p:cNvSpPr/>
          <p:nvPr/>
        </p:nvSpPr>
        <p:spPr>
          <a:xfrm>
            <a:off x="1116000" y="1844640"/>
            <a:ext cx="1873440" cy="71928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6" name="AutoShape 7"/>
          <p:cNvSpPr/>
          <p:nvPr/>
        </p:nvSpPr>
        <p:spPr>
          <a:xfrm>
            <a:off x="2771640" y="1773360"/>
            <a:ext cx="3889440" cy="1081080"/>
          </a:xfrm>
          <a:prstGeom prst="rightArrow">
            <a:avLst>
              <a:gd name="adj1" fmla="val 50000"/>
              <a:gd name="adj2" fmla="val 89943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化能自养硝酸化菌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7" name="Oval 8"/>
          <p:cNvSpPr/>
          <p:nvPr/>
        </p:nvSpPr>
        <p:spPr>
          <a:xfrm>
            <a:off x="6588000" y="1916280"/>
            <a:ext cx="1873440" cy="71892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NO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8" name="AutoShape 9"/>
          <p:cNvSpPr/>
          <p:nvPr/>
        </p:nvSpPr>
        <p:spPr>
          <a:xfrm>
            <a:off x="2268360" y="260280"/>
            <a:ext cx="5661360" cy="647640"/>
          </a:xfrm>
          <a:prstGeom prst="cloudCallout">
            <a:avLst>
              <a:gd name="adj1" fmla="val -29129"/>
              <a:gd name="adj2" fmla="val 70097"/>
            </a:avLst>
          </a:prstGeom>
          <a:solidFill>
            <a:srgbClr val="ffff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硝酸和亚硝酸盐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2EBA-480E-48AB-9149-21BBE99B598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3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ABEC-4095-4977-BDBF-FE6EE7A39E43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979640" y="404640"/>
            <a:ext cx="4680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生物引起的环境污染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0" y="1357200"/>
            <a:ext cx="8893080" cy="39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生物污染</a:t>
            </a:r>
            <a:r>
              <a:rPr b="1" lang="zh-CN" sz="14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黑体"/>
              </a:rPr>
              <a:t>Biological Pollution</a:t>
            </a:r>
            <a:r>
              <a:rPr b="1" lang="zh-CN" sz="1400" spc="-1" strike="noStrike">
                <a:solidFill>
                  <a:srgbClr val="000099"/>
                </a:solidFill>
                <a:latin typeface="黑体"/>
                <a:ea typeface="黑体"/>
              </a:rPr>
              <a:t>）</a:t>
            </a:r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人和生物有害的微生物、寄生虫等病原体和变应原等污染水、气、土壤和食品，影响生物产量和质量，危害人类健康，这种污染称为生物污染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Arial"/>
              </a:rPr>
              <a:t>霉菌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悬铃木花粉 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由人体、动物、土壤和植物碎屑携带的细菌和病毒 如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ARs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尘螨以及猫、狗和鸟类身上脱落的毛发、皮屑。 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夏季严防室内生物污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黑体"/>
              </a:rPr>
              <a:t>2019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年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月，非洲猪瘟事件（莱芜）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AD76-98F9-4422-A448-61670E35C61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7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CCD2-CFA1-4480-9E84-BBC7E5CC8177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71" name="Text Box 2"/>
          <p:cNvSpPr/>
          <p:nvPr/>
        </p:nvSpPr>
        <p:spPr>
          <a:xfrm>
            <a:off x="0" y="981000"/>
            <a:ext cx="9144000" cy="37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微生物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微生物在其生长、代谢过程中所产生的毒素。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类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霉菌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细菌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72" name="AutoShape 3"/>
          <p:cNvSpPr/>
          <p:nvPr/>
        </p:nvSpPr>
        <p:spPr>
          <a:xfrm>
            <a:off x="2268360" y="0"/>
            <a:ext cx="5112000" cy="836640"/>
          </a:xfrm>
          <a:prstGeom prst="cloudCallout">
            <a:avLst>
              <a:gd name="adj1" fmla="val -34162"/>
              <a:gd name="adj2" fmla="val 121537"/>
            </a:avLst>
          </a:prstGeom>
          <a:solidFill>
            <a:srgbClr val="ff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微生物毒素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3691-5ACD-4EE2-B5CD-89E4D5AD765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74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C0A7-9D6F-4FA1-BEB8-52F08E9BA031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75" name="Text Box 2"/>
          <p:cNvSpPr/>
          <p:nvPr/>
        </p:nvSpPr>
        <p:spPr>
          <a:xfrm>
            <a:off x="395280" y="836640"/>
            <a:ext cx="8532720" cy="457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霉菌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曲霉毒素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flaoxi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确定结构黄曲霉毒素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，其中以黄曲霉毒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毒性最大，致癌性最强，霉变食品中很多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岛状毒素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leuteoskyri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烈性肝脏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镰刀霉配质糖苷和枝孢菌酸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0136-4BE4-43C8-8D45-0F7DB563AF6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7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6B65-9835-4529-BCB5-D35295ACD6A7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80880" y="914400"/>
            <a:ext cx="8305920" cy="37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细菌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肉毒毒素：神经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肠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放线菌毒素：致癌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藻类毒素：海洋中的甲藻类、淡水中的蓝细菌和盐湖中的金藻类。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CC7F-0EB9-426C-ABAD-45C76257B54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DF93-E143-45BD-AA5A-272B678E09B5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1" name="AutoShape 2"/>
          <p:cNvSpPr/>
          <p:nvPr/>
        </p:nvSpPr>
        <p:spPr>
          <a:xfrm>
            <a:off x="395280" y="-171360"/>
            <a:ext cx="7162920" cy="761760"/>
          </a:xfrm>
          <a:prstGeom prst="cloudCallout">
            <a:avLst>
              <a:gd name="adj1" fmla="val -24532"/>
              <a:gd name="adj2" fmla="val 126041"/>
            </a:avLst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金属的生物转化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250920" y="765000"/>
            <a:ext cx="8620200" cy="3932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通过多种途径进入环境：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燃烧、农药、采矿、冶金等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心的元素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汞、砷、镉、铬、铅、锡、锑、铜、镍、钒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低浓度的重金属对大多数生物有明显毒性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毒性与重金属形态有关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生物具有适应金属化合物而生长并代谢这些物质的活性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代谢活动可改变其形态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24A0-261A-491C-B500-0F4DE3B899A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4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1958-AB9D-48A6-A7B8-80C4D9111338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34920" y="836640"/>
            <a:ext cx="8964720" cy="37641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182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金属在一定浓度时对微生物有毒害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182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低浓度的重金属对大多数微生物都有明显毒性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182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金属对微生物的毒性强度与其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浓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存在状态有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六价铬比三价铬毒得多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各种汞化物中，甲基汞的毒性最强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机锡比无机锡毒，烷基锡比芳基锡毒，三烷基锡比四烷基锡更毒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A4B1-C886-4D81-9B45-F98BDBB3BBA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386B-194B-49B4-9356-4CAD56EB6118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8" name="Text Box 2"/>
          <p:cNvSpPr/>
          <p:nvPr/>
        </p:nvSpPr>
        <p:spPr>
          <a:xfrm>
            <a:off x="0" y="304920"/>
            <a:ext cx="883908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思考题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金属对微生物的毒性强度与（ ）有关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浓度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其存在状态    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浓度和其存在状态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价态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环境中微生物对金属的转化，主要是（   ）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457200" y="51055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案：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C  2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氧化还原和甲基化作用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66BE-98F8-4E5E-9AC6-03E9AC919F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1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F76C-9A0F-424A-B203-D8E6DEFD1D3B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395280" y="1484280"/>
            <a:ext cx="7416720" cy="159588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微生物的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代谢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可改变环境中金属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状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改变它们的性质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改变其生物效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三国演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诸葛亮四纵孟获后其部属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饮哑泉水中毒之谜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3" name="AutoShape 3"/>
          <p:cNvSpPr/>
          <p:nvPr/>
        </p:nvSpPr>
        <p:spPr>
          <a:xfrm>
            <a:off x="2362320" y="380880"/>
            <a:ext cx="6476760" cy="762120"/>
          </a:xfrm>
          <a:prstGeom prst="cloudCallout">
            <a:avLst>
              <a:gd name="adj1" fmla="val -65365"/>
              <a:gd name="adj2" fmla="val 70000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金属的生物转化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4" name="AutoShape 4"/>
          <p:cNvSpPr/>
          <p:nvPr/>
        </p:nvSpPr>
        <p:spPr>
          <a:xfrm>
            <a:off x="250920" y="3933720"/>
            <a:ext cx="2133360" cy="1150920"/>
          </a:xfrm>
          <a:prstGeom prst="flowChartAlternateProcess">
            <a:avLst/>
          </a:prstGeom>
          <a:solidFill>
            <a:srgbClr val="ccffff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铜矿石中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溶于水的铜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5" name="AutoShape 5"/>
          <p:cNvSpPr/>
          <p:nvPr/>
        </p:nvSpPr>
        <p:spPr>
          <a:xfrm>
            <a:off x="2556000" y="3860640"/>
            <a:ext cx="4876560" cy="1295640"/>
          </a:xfrm>
          <a:prstGeom prst="rightArrow">
            <a:avLst>
              <a:gd name="adj1" fmla="val 50000"/>
              <a:gd name="adj2" fmla="val 94096"/>
            </a:avLst>
          </a:prstGeom>
          <a:solidFill>
            <a:srgbClr val="ff9900"/>
          </a:solidFill>
          <a:ln w="76320">
            <a:solidFill>
              <a:srgbClr val="33cc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氧化亚铁硫杆菌等嗜酸菌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6" name="AutoShape 6"/>
          <p:cNvSpPr/>
          <p:nvPr/>
        </p:nvSpPr>
        <p:spPr>
          <a:xfrm>
            <a:off x="7164360" y="3860640"/>
            <a:ext cx="1368360" cy="1295640"/>
          </a:xfrm>
          <a:prstGeom prst="flowChartMultidocument">
            <a:avLst/>
          </a:prstGeom>
          <a:solidFill>
            <a:srgbClr val="ffff00"/>
          </a:solidFill>
          <a:ln w="4140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硫酸铜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CE55-D52E-47CE-9AA6-312258C3796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8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1560-CBBB-42C7-B744-3F93647DF4E9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9" name="Text Box 2"/>
          <p:cNvSpPr/>
          <p:nvPr/>
        </p:nvSpPr>
        <p:spPr>
          <a:xfrm>
            <a:off x="1835280" y="333360"/>
            <a:ext cx="446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1187280" y="260280"/>
            <a:ext cx="604872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汞的氧化、还原和甲基化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684360" y="1916280"/>
            <a:ext cx="7777080" cy="272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中的无机汞可以下列三种形式存在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具有氧化作用的微生物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柠檬酸细菌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irobacter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、枯草芽孢杆菌、巨大芽孢杆菌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具有还原作用的微生物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铜绿假单胞菌、大肠埃希氏菌、变形杆菌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2" name="Oval 5"/>
          <p:cNvSpPr/>
          <p:nvPr/>
        </p:nvSpPr>
        <p:spPr>
          <a:xfrm>
            <a:off x="1908000" y="1052640"/>
            <a:ext cx="5185080" cy="609480"/>
          </a:xfrm>
          <a:prstGeom prst="ellipse">
            <a:avLst/>
          </a:prstGeom>
          <a:solidFill>
            <a:srgbClr val="ffff99"/>
          </a:solidFill>
          <a:ln w="73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汞的氧化和还原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C631-A974-4C98-9B09-5F7ADEB7405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4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9A4C-3EEC-4892-A49A-5FFAC69B73A6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208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E1B1-7F41-4680-8238-1249C636D32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F39B-F9D3-4E6F-87C0-6F9A27B3D5F7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8" name="Text Box 2"/>
          <p:cNvSpPr/>
          <p:nvPr/>
        </p:nvSpPr>
        <p:spPr>
          <a:xfrm>
            <a:off x="179280" y="1628640"/>
            <a:ext cx="8785440" cy="2705040"/>
          </a:xfrm>
          <a:prstGeom prst="rect">
            <a:avLst/>
          </a:prstGeom>
          <a:solidFill>
            <a:srgbClr val="ffffff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抗汞的假单胞菌株处理含总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mg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工业废水，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将废水中汞化物转化成元素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而回收利用，水的含汞量则大大减少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国科学院北京微生物研究所将假单胞菌的抗汞质粒转移给受体菌，使后者的抗汞水平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倍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倍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9" name="AutoShape 3"/>
          <p:cNvSpPr/>
          <p:nvPr/>
        </p:nvSpPr>
        <p:spPr>
          <a:xfrm>
            <a:off x="1752480" y="228600"/>
            <a:ext cx="3962520" cy="838080"/>
          </a:xfrm>
          <a:prstGeom prst="cloudCallout">
            <a:avLst>
              <a:gd name="adj1" fmla="val 13583"/>
              <a:gd name="adj2" fmla="val 117800"/>
            </a:avLst>
          </a:prstGeom>
          <a:solidFill>
            <a:srgbClr val="ffff99"/>
          </a:solidFill>
          <a:ln w="475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学术研究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34AD-8E46-433A-A6E0-3902BC0A12A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9AD6-096D-4683-979F-DEE32F22F127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684360" y="1125360"/>
            <a:ext cx="813564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buClr>
                <a:srgbClr val="ff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物性污染对于食品安全的威胁很突出，数据表明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污染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危害我国食品安全的首要因素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buClr>
                <a:srgbClr val="ff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于生物性污染具有</a:t>
            </a:r>
            <a:r>
              <a:rPr b="1" lang="zh-CN" sz="2800" spc="-1" strike="noStrike">
                <a:solidFill>
                  <a:srgbClr val="cc3300"/>
                </a:solidFill>
                <a:latin typeface="微软雅黑"/>
                <a:ea typeface="微软雅黑"/>
              </a:rPr>
              <a:t>不确定性和控制难度大的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点，容易造成局部地区的暴发和流行，因而备受食品安全监管部门的关注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3E43-DFF0-4ADC-AB61-98C1ABEE108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1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C297-A38D-4E6F-B382-F7E6E9669626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2" name="Text Box 2"/>
          <p:cNvSpPr/>
          <p:nvPr/>
        </p:nvSpPr>
        <p:spPr>
          <a:xfrm>
            <a:off x="0" y="1125360"/>
            <a:ext cx="9144000" cy="22521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吉林医学院从第二松花江表层底泥中分离、筛选出三株抗汞假单胞菌，经驯化，去除氯化汞的效率相当高，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gC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浓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mg/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mg/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去除率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％，浓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mg/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mg/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去除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％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的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微生物能将金属浓集于自身细胞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这对于减轻环境污染，维持生态平衡有重要意义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888B-C7E3-49B3-90FB-F4AE96FD156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4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CB36-4762-414D-B1AE-9D5E9467DF32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5" name="Text Box 2"/>
          <p:cNvSpPr/>
          <p:nvPr/>
        </p:nvSpPr>
        <p:spPr>
          <a:xfrm>
            <a:off x="539640" y="836640"/>
            <a:ext cx="7777440" cy="402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汞的甲基化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8000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水俣病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8000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汞甲基化的微生物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甲烷菌、匙形梭菌、荧光假单胞菌等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8000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甲基汞溶于水，为鱼贝吸收而浓缩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8000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甲基汞逸出水体，进入大气，污染扩大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9C60-A7FD-4AC5-A56E-088EF0821B2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B309-1246-4918-A9EA-310F3CD5B8C4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8" name="Text Box 2"/>
          <p:cNvSpPr/>
          <p:nvPr/>
        </p:nvSpPr>
        <p:spPr>
          <a:xfrm>
            <a:off x="755640" y="1989000"/>
            <a:ext cx="723888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生物能进行甲基汞降解作用。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能降解甲基汞的微生物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需氧菌、兼性厌氧菌和专性厌氧菌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2AF8-E8DB-4DE4-8444-E0C9C80DC14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2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D869-427B-4EFA-BBC9-091F672C209D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21" name="Text Box 2"/>
          <p:cNvSpPr/>
          <p:nvPr/>
        </p:nvSpPr>
        <p:spPr>
          <a:xfrm>
            <a:off x="900000" y="189000"/>
            <a:ext cx="604836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砷的氧化、还原和甲基化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826920" y="2133720"/>
            <a:ext cx="7344000" cy="165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砷为类金属，微量元素。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砷的有机、无机化合物有毒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毒性大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5+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砒霜为三价砷化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FBAC-AD9E-4ED5-B229-D9A79187669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24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BDED-DF97-41F9-AD47-FEE37C91831F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1763640" y="0"/>
            <a:ext cx="4537080" cy="1009800"/>
          </a:xfrm>
          <a:prstGeom prst="cloudCallout">
            <a:avLst>
              <a:gd name="adj1" fmla="val 65537"/>
              <a:gd name="adj2" fmla="val 70439"/>
            </a:avLst>
          </a:prstGeom>
          <a:solidFill>
            <a:srgbClr val="cc99ff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砷的氧化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526" name="Picture 5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4544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00AD-77F4-4F7F-B381-5D785F9C592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28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BED1-6FFA-4CA8-BAE0-FABF7DD8C531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529" name="Group 3"/>
          <p:cNvGrpSpPr/>
          <p:nvPr/>
        </p:nvGrpSpPr>
        <p:grpSpPr>
          <a:xfrm>
            <a:off x="0" y="2060640"/>
            <a:ext cx="7235640" cy="863640"/>
            <a:chOff x="0" y="2060640"/>
            <a:chExt cx="7235640" cy="863640"/>
          </a:xfrm>
        </p:grpSpPr>
        <p:sp>
          <p:nvSpPr>
            <p:cNvPr id="530" name="Oval 4"/>
            <p:cNvSpPr/>
            <p:nvPr/>
          </p:nvSpPr>
          <p:spPr>
            <a:xfrm>
              <a:off x="0" y="2060640"/>
              <a:ext cx="2045160" cy="790560"/>
            </a:xfrm>
            <a:prstGeom prst="ellipse">
              <a:avLst/>
            </a:prstGeom>
            <a:solidFill>
              <a:srgbClr val="ffff99"/>
            </a:solidFill>
            <a:ln w="763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亚砷酸盐</a:t>
              </a:r>
              <a:endParaRPr b="1" lang="en-US" sz="28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531" name="AutoShape 5"/>
            <p:cNvSpPr/>
            <p:nvPr/>
          </p:nvSpPr>
          <p:spPr>
            <a:xfrm>
              <a:off x="2046600" y="2132280"/>
              <a:ext cx="5189040" cy="792000"/>
            </a:xfrm>
            <a:prstGeom prst="rightArrow">
              <a:avLst>
                <a:gd name="adj1" fmla="val 50000"/>
                <a:gd name="adj2" fmla="val 163795"/>
              </a:avLst>
            </a:prstGeom>
            <a:solidFill>
              <a:srgbClr val="00ffff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  <a:ea typeface="黑体"/>
                </a:rPr>
                <a:t>假单胞菌、黄单胞菌、节杆菌</a:t>
              </a:r>
              <a:endParaRPr b="1" lang="en-US" sz="28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532" name="Oval 6"/>
          <p:cNvSpPr/>
          <p:nvPr/>
        </p:nvSpPr>
        <p:spPr>
          <a:xfrm>
            <a:off x="7128000" y="2133720"/>
            <a:ext cx="1836720" cy="79056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砷酸盐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4EAC-F5EA-417F-A536-198126F62E3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34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04AC-9FA6-4C4C-9184-9056B4727EC2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35" name="AutoShape 2"/>
          <p:cNvSpPr/>
          <p:nvPr/>
        </p:nvSpPr>
        <p:spPr>
          <a:xfrm>
            <a:off x="1187280" y="1628640"/>
            <a:ext cx="676944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砷化物加到颜料中使色彩鲜艳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36" name="Oval 3"/>
          <p:cNvSpPr/>
          <p:nvPr/>
        </p:nvSpPr>
        <p:spPr>
          <a:xfrm>
            <a:off x="684360" y="2924280"/>
            <a:ext cx="2016000" cy="79056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砷化物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37" name="AutoShape 4"/>
          <p:cNvSpPr/>
          <p:nvPr/>
        </p:nvSpPr>
        <p:spPr>
          <a:xfrm>
            <a:off x="2916360" y="2924280"/>
            <a:ext cx="2104920" cy="792000"/>
          </a:xfrm>
          <a:prstGeom prst="rightArrow">
            <a:avLst>
              <a:gd name="adj1" fmla="val 50000"/>
              <a:gd name="adj2" fmla="val 66443"/>
            </a:avLst>
          </a:prstGeom>
          <a:solidFill>
            <a:srgbClr val="00ff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霉菌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38" name="Oval 5"/>
          <p:cNvSpPr/>
          <p:nvPr/>
        </p:nvSpPr>
        <p:spPr>
          <a:xfrm>
            <a:off x="5076720" y="2852640"/>
            <a:ext cx="2867040" cy="79056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三甲基砷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39" name="AutoShape 6"/>
          <p:cNvSpPr/>
          <p:nvPr/>
        </p:nvSpPr>
        <p:spPr>
          <a:xfrm>
            <a:off x="1403280" y="404640"/>
            <a:ext cx="5184720" cy="863640"/>
          </a:xfrm>
          <a:prstGeom prst="cloudCallout">
            <a:avLst>
              <a:gd name="adj1" fmla="val 19995"/>
              <a:gd name="adj2" fmla="val 86763"/>
            </a:avLst>
          </a:prstGeom>
          <a:solidFill>
            <a:srgbClr val="99cc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黑体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黑体"/>
              </a:rPr>
              <a:t>砷的甲基化</a:t>
            </a: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0" name="AutoShape 7"/>
          <p:cNvSpPr/>
          <p:nvPr/>
        </p:nvSpPr>
        <p:spPr>
          <a:xfrm>
            <a:off x="2411280" y="4149720"/>
            <a:ext cx="5545440" cy="1295280"/>
          </a:xfrm>
          <a:prstGeom prst="cloudCallout">
            <a:avLst>
              <a:gd name="adj1" fmla="val 17189"/>
              <a:gd name="adj2" fmla="val -84069"/>
            </a:avLst>
          </a:prstGeom>
          <a:solidFill>
            <a:srgbClr val="cc99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大蒜气味的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剧毒物质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3343-2C05-484C-A25E-EC562B8BF9D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2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6C81-2083-4181-8C84-DC91962FC231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3" name="Text Box 2"/>
          <p:cNvSpPr/>
          <p:nvPr/>
        </p:nvSpPr>
        <p:spPr>
          <a:xfrm>
            <a:off x="990720" y="762120"/>
            <a:ext cx="7543800" cy="642600"/>
          </a:xfrm>
          <a:prstGeom prst="rect">
            <a:avLst/>
          </a:prstGeom>
          <a:solidFill>
            <a:srgbClr val="ffffff"/>
          </a:solidFill>
          <a:ln w="3492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黑体"/>
                <a:ea typeface="黑体"/>
              </a:rPr>
              <a:t>（三）硒的氧化、还原和甲基化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4" name="AutoShape 3"/>
          <p:cNvSpPr/>
          <p:nvPr/>
        </p:nvSpPr>
        <p:spPr>
          <a:xfrm>
            <a:off x="2411280" y="1484280"/>
            <a:ext cx="2952720" cy="792360"/>
          </a:xfrm>
          <a:prstGeom prst="cloudCallout">
            <a:avLst>
              <a:gd name="adj1" fmla="val -20537"/>
              <a:gd name="adj2" fmla="val 104310"/>
            </a:avLst>
          </a:prstGeom>
          <a:solidFill>
            <a:srgbClr val="31b6fd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富硒大米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900000" y="278136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要量与中毒水平之间的安全幅度很小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6" name="Oval 5"/>
          <p:cNvSpPr/>
          <p:nvPr/>
        </p:nvSpPr>
        <p:spPr>
          <a:xfrm>
            <a:off x="611280" y="3429000"/>
            <a:ext cx="2016000" cy="79056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素硒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7" name="AutoShape 6"/>
          <p:cNvSpPr/>
          <p:nvPr/>
        </p:nvSpPr>
        <p:spPr>
          <a:xfrm>
            <a:off x="2627280" y="3429000"/>
            <a:ext cx="1871640" cy="792000"/>
          </a:xfrm>
          <a:prstGeom prst="rightArrow">
            <a:avLst>
              <a:gd name="adj1" fmla="val 50000"/>
              <a:gd name="adj2" fmla="val 59080"/>
            </a:avLst>
          </a:prstGeom>
          <a:solidFill>
            <a:srgbClr val="00ff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紫色硫细菌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8" name="Oval 7"/>
          <p:cNvSpPr/>
          <p:nvPr/>
        </p:nvSpPr>
        <p:spPr>
          <a:xfrm>
            <a:off x="4572000" y="3429000"/>
            <a:ext cx="2305080" cy="79056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硒酸盐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D779-C257-4989-B939-A828A18D912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AD5D-8B25-4ED8-830F-5D5496FFB141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1" name="Text Box 2"/>
          <p:cNvSpPr/>
          <p:nvPr/>
        </p:nvSpPr>
        <p:spPr>
          <a:xfrm>
            <a:off x="1143000" y="1143000"/>
            <a:ext cx="6934320" cy="2837160"/>
          </a:xfrm>
          <a:prstGeom prst="rect">
            <a:avLst/>
          </a:prstGeom>
          <a:solidFill>
            <a:srgbClr val="ffffff"/>
          </a:solidFill>
          <a:ln w="3492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四）其他重金属的生物转化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铅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锡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镉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锑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5B2C-4780-4480-A5F1-F1665F4805E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3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FA0D-9590-4D79-B9B9-89652D1CBC45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4" name="Text Box 2"/>
          <p:cNvSpPr/>
          <p:nvPr/>
        </p:nvSpPr>
        <p:spPr>
          <a:xfrm>
            <a:off x="0" y="907920"/>
            <a:ext cx="9144000" cy="3841200"/>
          </a:xfrm>
          <a:prstGeom prst="rect">
            <a:avLst/>
          </a:prstGeom>
          <a:solidFill>
            <a:srgbClr val="ffffff"/>
          </a:solidFill>
          <a:ln w="3492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五）重金属生物转化的环境效应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对有毒金属的解毒方式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通过分泌或呼吸作用排出形成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有机金属化合物</a:t>
            </a:r>
            <a:r>
              <a:rPr b="1" lang="zh-CN" sz="2800" spc="-1" strike="noStrike">
                <a:solidFill>
                  <a:srgbClr val="4584d3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被排出的金属化合物，可能对高等生物具有更大的危害性</a:t>
            </a:r>
            <a:r>
              <a:rPr b="1" lang="zh-CN" sz="2800" spc="-1" strike="noStrike">
                <a:solidFill>
                  <a:srgbClr val="993366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可把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化合态金属还原成单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将金属从生物接触的环境中清除。例如汞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7DAB-30A8-44DC-8F31-C5450CA3ACD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7099-C7CA-4EAB-AAB0-20F9E60874CE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763640" y="189000"/>
            <a:ext cx="468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环境中的病原微生物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2340000" y="1125360"/>
            <a:ext cx="3816360" cy="520560"/>
          </a:xfrm>
          <a:prstGeom prst="rect">
            <a:avLst/>
          </a:prstGeom>
          <a:solidFill>
            <a:srgbClr val="ccffff"/>
          </a:solidFill>
          <a:ln w="7632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空气中的微生物污染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324000" y="1844640"/>
            <a:ext cx="8569080" cy="19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993366"/>
              </a:buClr>
              <a:buSzPct val="12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污水处理与污水灌溉可引起空气污染。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99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污灌前进行污水消毒，以减少含菌气溶胶的传播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7CAF-C256-4813-AD07-44897215951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6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88CC-DEBB-4E4E-A858-C1A91760D632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7" name="AutoShape 2"/>
          <p:cNvSpPr/>
          <p:nvPr/>
        </p:nvSpPr>
        <p:spPr>
          <a:xfrm>
            <a:off x="2916360" y="0"/>
            <a:ext cx="2554200" cy="907920"/>
          </a:xfrm>
          <a:custGeom>
            <a:avLst/>
            <a:gdLst>
              <a:gd name="textAreaLeft" fmla="*/ 447480 w 2554200"/>
              <a:gd name="textAreaRight" fmla="*/ 2106720 w 2554200"/>
              <a:gd name="textAreaTop" fmla="*/ 159120 h 907920"/>
              <a:gd name="textAreaBottom" fmla="*/ 748800 h 90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84" y="3784"/>
                </a:lnTo>
                <a:lnTo>
                  <a:pt x="10800" y="0"/>
                </a:lnTo>
                <a:lnTo>
                  <a:pt x="17816" y="3784"/>
                </a:lnTo>
                <a:lnTo>
                  <a:pt x="21600" y="10800"/>
                </a:lnTo>
                <a:lnTo>
                  <a:pt x="17816" y="17816"/>
                </a:lnTo>
                <a:lnTo>
                  <a:pt x="10800" y="21600"/>
                </a:lnTo>
                <a:lnTo>
                  <a:pt x="3784" y="17816"/>
                </a:lnTo>
                <a:lnTo>
                  <a:pt x="0" y="10800"/>
                </a:lnTo>
                <a:close/>
              </a:path>
            </a:pathLst>
          </a:custGeom>
          <a:solidFill>
            <a:srgbClr val="ccffcc"/>
          </a:solidFill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补充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826920" y="90792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六节 影响污染物在生态系统中行为的因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9" name="Oval 4"/>
          <p:cNvSpPr/>
          <p:nvPr/>
        </p:nvSpPr>
        <p:spPr>
          <a:xfrm>
            <a:off x="990720" y="1905120"/>
            <a:ext cx="3220920" cy="720720"/>
          </a:xfrm>
          <a:prstGeom prst="ellipse">
            <a:avLst/>
          </a:prstGeom>
          <a:solidFill>
            <a:srgbClr val="ffff99"/>
          </a:solidFill>
          <a:ln w="85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生物因素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0" name="Oval 5"/>
          <p:cNvSpPr/>
          <p:nvPr/>
        </p:nvSpPr>
        <p:spPr>
          <a:xfrm>
            <a:off x="1692360" y="2708280"/>
            <a:ext cx="3646440" cy="720720"/>
          </a:xfrm>
          <a:prstGeom prst="ellipse">
            <a:avLst/>
          </a:prstGeom>
          <a:solidFill>
            <a:srgbClr val="ccffff"/>
          </a:solidFill>
          <a:ln w="475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污染物因素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1" name="Oval 6"/>
          <p:cNvSpPr/>
          <p:nvPr/>
        </p:nvSpPr>
        <p:spPr>
          <a:xfrm>
            <a:off x="2340000" y="3573360"/>
            <a:ext cx="2879640" cy="720720"/>
          </a:xfrm>
          <a:prstGeom prst="ellipse">
            <a:avLst/>
          </a:prstGeom>
          <a:solidFill>
            <a:srgbClr val="ffffff"/>
          </a:solidFill>
          <a:ln w="98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环境因素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CA14-7996-4C33-8DCB-A0E1D8D013B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3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609E-AFE2-4AE4-ACFA-3F63954D277B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3276720" y="1905120"/>
            <a:ext cx="1655640" cy="2531880"/>
          </a:xfrm>
          <a:custGeom>
            <a:avLst/>
            <a:gdLst>
              <a:gd name="textAreaLeft" fmla="*/ 1057680 w 1655640"/>
              <a:gd name="textAreaRight" fmla="*/ 1656000 w 1655640"/>
              <a:gd name="textAreaTop" fmla="*/ 65880 h 2531880"/>
              <a:gd name="textAreaBottom" fmla="*/ 2466000 h 253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5" name="Oval 3"/>
          <p:cNvSpPr/>
          <p:nvPr/>
        </p:nvSpPr>
        <p:spPr>
          <a:xfrm>
            <a:off x="4643280" y="1484280"/>
            <a:ext cx="3240360" cy="72072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生物的种类差异性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6" name="Oval 4"/>
          <p:cNvSpPr/>
          <p:nvPr/>
        </p:nvSpPr>
        <p:spPr>
          <a:xfrm>
            <a:off x="4500720" y="2349360"/>
            <a:ext cx="3240000" cy="72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组织和器官差异性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7" name="Oval 5"/>
          <p:cNvSpPr/>
          <p:nvPr/>
        </p:nvSpPr>
        <p:spPr>
          <a:xfrm>
            <a:off x="4500720" y="3284640"/>
            <a:ext cx="3456000" cy="720720"/>
          </a:xfrm>
          <a:prstGeom prst="ellipse">
            <a:avLst/>
          </a:prstGeom>
          <a:solidFill>
            <a:srgbClr val="c0c0c0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育期和年龄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8" name="Oval 6"/>
          <p:cNvSpPr/>
          <p:nvPr/>
        </p:nvSpPr>
        <p:spPr>
          <a:xfrm>
            <a:off x="5435640" y="4149720"/>
            <a:ext cx="1728720" cy="72072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性别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9" name="Oval 7"/>
          <p:cNvSpPr/>
          <p:nvPr/>
        </p:nvSpPr>
        <p:spPr>
          <a:xfrm>
            <a:off x="539640" y="2666880"/>
            <a:ext cx="3025800" cy="720720"/>
          </a:xfrm>
          <a:prstGeom prst="ellipse">
            <a:avLst/>
          </a:prstGeom>
          <a:solidFill>
            <a:srgbClr val="ffff99"/>
          </a:solidFill>
          <a:ln w="85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生物因素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5B34-35FD-4125-93A7-F7C28935D9C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1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A3EF-5ECE-4896-BB83-FE6911A3F6FE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2" name="AutoShape 2"/>
          <p:cNvSpPr/>
          <p:nvPr/>
        </p:nvSpPr>
        <p:spPr>
          <a:xfrm>
            <a:off x="3276720" y="1916280"/>
            <a:ext cx="1441440" cy="2519280"/>
          </a:xfrm>
          <a:custGeom>
            <a:avLst/>
            <a:gdLst>
              <a:gd name="textAreaLeft" fmla="*/ 920880 w 1441440"/>
              <a:gd name="textAreaRight" fmla="*/ 1441800 w 14414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3" name="Oval 3"/>
          <p:cNvSpPr/>
          <p:nvPr/>
        </p:nvSpPr>
        <p:spPr>
          <a:xfrm>
            <a:off x="4643280" y="1484280"/>
            <a:ext cx="3240360" cy="72072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种类和理化性质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4" name="Oval 4"/>
          <p:cNvSpPr/>
          <p:nvPr/>
        </p:nvSpPr>
        <p:spPr>
          <a:xfrm>
            <a:off x="4500720" y="2349360"/>
            <a:ext cx="3240000" cy="72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污染物的存在形态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5" name="Oval 5"/>
          <p:cNvSpPr/>
          <p:nvPr/>
        </p:nvSpPr>
        <p:spPr>
          <a:xfrm>
            <a:off x="4500720" y="3284640"/>
            <a:ext cx="3240000" cy="720720"/>
          </a:xfrm>
          <a:prstGeom prst="ellipse">
            <a:avLst/>
          </a:prstGeom>
          <a:solidFill>
            <a:srgbClr val="c0c0c0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浓度和暴露时间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6" name="Oval 6"/>
          <p:cNvSpPr/>
          <p:nvPr/>
        </p:nvSpPr>
        <p:spPr>
          <a:xfrm>
            <a:off x="4788000" y="4076640"/>
            <a:ext cx="2879640" cy="72072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污染物的相互作用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7" name="AutoShape 7"/>
          <p:cNvSpPr/>
          <p:nvPr/>
        </p:nvSpPr>
        <p:spPr>
          <a:xfrm>
            <a:off x="3059280" y="4941720"/>
            <a:ext cx="3960720" cy="719280"/>
          </a:xfrm>
          <a:prstGeom prst="wedgeRoundRectCallout">
            <a:avLst>
              <a:gd name="adj1" fmla="val 25111"/>
              <a:gd name="adj2" fmla="val -90398"/>
              <a:gd name="adj3" fmla="val 16667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协同、相加、独立和拮抗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8" name="Oval 8"/>
          <p:cNvSpPr/>
          <p:nvPr/>
        </p:nvSpPr>
        <p:spPr>
          <a:xfrm>
            <a:off x="228600" y="2743200"/>
            <a:ext cx="2879640" cy="720720"/>
          </a:xfrm>
          <a:prstGeom prst="ellipse">
            <a:avLst/>
          </a:prstGeom>
          <a:solidFill>
            <a:srgbClr val="ccffff"/>
          </a:solidFill>
          <a:ln w="475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污染物因素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2C63-688E-4FD6-8D7C-D69458B4DE9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1EAA-847F-4724-9170-4369C1CA1CBA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1" name="AutoShape 2"/>
          <p:cNvSpPr/>
          <p:nvPr/>
        </p:nvSpPr>
        <p:spPr>
          <a:xfrm>
            <a:off x="3276720" y="1916280"/>
            <a:ext cx="1441440" cy="2519280"/>
          </a:xfrm>
          <a:custGeom>
            <a:avLst/>
            <a:gdLst>
              <a:gd name="textAreaLeft" fmla="*/ 920880 w 1441440"/>
              <a:gd name="textAreaRight" fmla="*/ 1441800 w 14414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2" name="Oval 3"/>
          <p:cNvSpPr/>
          <p:nvPr/>
        </p:nvSpPr>
        <p:spPr>
          <a:xfrm>
            <a:off x="4643280" y="1628640"/>
            <a:ext cx="3600720" cy="72072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温度、湿度和光照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3" name="Oval 4"/>
          <p:cNvSpPr/>
          <p:nvPr/>
        </p:nvSpPr>
        <p:spPr>
          <a:xfrm>
            <a:off x="4500720" y="2781360"/>
            <a:ext cx="3240000" cy="72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环境介质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4" name="Oval 5"/>
          <p:cNvSpPr/>
          <p:nvPr/>
        </p:nvSpPr>
        <p:spPr>
          <a:xfrm>
            <a:off x="4427640" y="3933720"/>
            <a:ext cx="3240000" cy="720720"/>
          </a:xfrm>
          <a:prstGeom prst="ellipse">
            <a:avLst/>
          </a:prstGeom>
          <a:solidFill>
            <a:srgbClr val="c0c0c0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根际环境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5" name="Oval 6"/>
          <p:cNvSpPr/>
          <p:nvPr/>
        </p:nvSpPr>
        <p:spPr>
          <a:xfrm>
            <a:off x="380880" y="2819520"/>
            <a:ext cx="2880000" cy="720720"/>
          </a:xfrm>
          <a:prstGeom prst="ellipse">
            <a:avLst/>
          </a:prstGeom>
          <a:solidFill>
            <a:srgbClr val="ffffff"/>
          </a:solidFill>
          <a:ln w="98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环境因素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1C97-FCD9-4590-9074-ABFCB7D1F80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274C-E667-45E2-BE4D-B71ACBBB0A1B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8" name="Text Box 2"/>
          <p:cNvSpPr/>
          <p:nvPr/>
        </p:nvSpPr>
        <p:spPr>
          <a:xfrm>
            <a:off x="0" y="836640"/>
            <a:ext cx="6302520" cy="4492440"/>
          </a:xfrm>
          <a:prstGeom prst="rect">
            <a:avLst/>
          </a:prstGeom>
          <a:noFill/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buClr>
                <a:srgbClr val="00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际环境对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植物吸收和积累污染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重要的影响，主要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因素有关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植物生长过程中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根系产生的分泌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根际微环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改变；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根际环境中大量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微生物生理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根际微环境的改变；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同植物根形成共生关系的菌根微生物也影响了吸收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9" name="AutoShape 3"/>
          <p:cNvSpPr/>
          <p:nvPr/>
        </p:nvSpPr>
        <p:spPr>
          <a:xfrm>
            <a:off x="6858000" y="1916280"/>
            <a:ext cx="2286000" cy="2514600"/>
          </a:xfrm>
          <a:prstGeom prst="wedgeRoundRectCallout">
            <a:avLst>
              <a:gd name="adj1" fmla="val -99444"/>
              <a:gd name="adj2" fmla="val -17361"/>
              <a:gd name="adj3" fmla="val 16667"/>
            </a:avLst>
          </a:prstGeom>
          <a:solidFill>
            <a:srgbClr val="ccffff"/>
          </a:solidFill>
          <a:ln w="85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分泌物中大量的有机酸和酚类等物质可与重金属形成络合物，有利植物吸收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2077-4504-4104-9445-138C044A3BB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91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6065-DF50-413D-965F-EFDFD1602145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92" name="AutoShape 3"/>
          <p:cNvSpPr/>
          <p:nvPr/>
        </p:nvSpPr>
        <p:spPr>
          <a:xfrm>
            <a:off x="6642000" y="1628640"/>
            <a:ext cx="2502000" cy="3649680"/>
          </a:xfrm>
          <a:prstGeom prst="wedgeRoundRectCallout">
            <a:avLst>
              <a:gd name="adj1" fmla="val -83504"/>
              <a:gd name="adj2" fmla="val 14638"/>
              <a:gd name="adj3" fmla="val 16667"/>
            </a:avLst>
          </a:prstGeom>
          <a:noFill/>
          <a:ln w="85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由于微生物的代谢活性，产酸导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降，产生重金属螯合物，导致重金属溶解，被微生物细胞吸附或吸收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0" y="836640"/>
            <a:ext cx="6302520" cy="4492440"/>
          </a:xfrm>
          <a:prstGeom prst="rect">
            <a:avLst/>
          </a:prstGeom>
          <a:noFill/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buClr>
                <a:srgbClr val="00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际环境对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植物吸收和积累污染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重要的影响，主要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因素有关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植物生长过程中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根系产生的分泌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根际微环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改变；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根际环境中大量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微生物生理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根际微环境的改变；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同植物根形成共生关系的菌根微生物也影响了吸收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B3D6-72DD-4951-A085-B9A0B948BB2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95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3165-80AB-459B-B192-D3CA97081E1F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6659640" y="1197000"/>
            <a:ext cx="2286000" cy="3505320"/>
          </a:xfrm>
          <a:prstGeom prst="wedgeRoundRectCallout">
            <a:avLst>
              <a:gd name="adj1" fmla="val -83263"/>
              <a:gd name="adj2" fmla="val 61365"/>
              <a:gd name="adj3" fmla="val 16667"/>
            </a:avLst>
          </a:prstGeom>
          <a:noFill/>
          <a:ln w="85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使用污泥的土壤中，菌根促进植物的生长，根瘤数和重量，提高植物体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的含量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0" y="836640"/>
            <a:ext cx="6302520" cy="4492440"/>
          </a:xfrm>
          <a:prstGeom prst="rect">
            <a:avLst/>
          </a:prstGeom>
          <a:noFill/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buClr>
                <a:srgbClr val="00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际环境对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植物吸收和积累污染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重要的影响，主要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因素有关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植物生长过程中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根系产生的分泌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根际微环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改变；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根际环境中大量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微生物生理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根际微环境的改变；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同植物根形成共生关系的菌根微生物也影响了吸收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日期占位符 1"/>
          <p:cNvSpPr/>
          <p:nvPr/>
        </p:nvSpPr>
        <p:spPr>
          <a:xfrm>
            <a:off x="5219640" y="62373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380E-E46A-4FDE-934A-0BEA1BAD76F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99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E449-6F15-4D8D-81C2-7B44DC7BE982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250920" y="692280"/>
            <a:ext cx="864216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解释下列基本概念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优先控制污染物、污染物迁移、污染物转化、超积累植物、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POPs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污染物在环境中的迁移方式和转化途径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什么是生物转运？污染物透过细胞膜的方式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什么是污染物在体内的生物转化？生物转化过程和主要反应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5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什么是生物浓缩、生物积累、生物放大和浓缩系数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6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阐述微生物对金属汞、砷的生物转化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影响污染物在生态系统中的行为的主要因素有哪些方面？举例说明这些因素的影响方式和影响程度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超量积累植物具有什么特点？研究超量积累植物有什么意义？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537D-B5B2-433D-9E19-21A6463510D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02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B7E7-A8D8-4023-8B9A-CC904A351AF2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0" y="620640"/>
            <a:ext cx="8893080" cy="415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次作业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的环境问题？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在本学科中存在的主要优先领域有哪些方面？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国外环境生物学重要期刊？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什么是生物转运？污染物透过细胞膜的方式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什么是污染物在体内的生物转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请简述生物转化过程和主要反应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概念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生物浓缩、生物积累、生物放大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优先控制污染物、超积累植物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OPs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8F26-FA0E-4C7A-AEAE-19762BE9976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5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497B-556E-401E-87D9-18C51C7300E1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340000" y="260280"/>
            <a:ext cx="3816360" cy="5205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体中的微生物污染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971800" y="1143000"/>
            <a:ext cx="2209680" cy="52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水中病原体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250920" y="1844640"/>
            <a:ext cx="8353440" cy="393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沙门氏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almonella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沙门氏菌污染的水源被饮用可能导致人体肠胃或伤寒暴发流行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菌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志贺氏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igella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菌，引起痢疾流行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霍乱弧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brio cholera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霍乱流行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病毒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nterovirus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甲型肝炎病毒、呼肠锅病毒等都引起水体污染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482F-50E0-4C9A-89CB-32338E12BAA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2756-5169-41CA-9C7B-B1B0369DB206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2411280" y="260280"/>
            <a:ext cx="3816360" cy="5205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土壤的微生物污染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0" y="981000"/>
            <a:ext cx="8964720" cy="329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土壤是微生物居住场所，造成土壤微生物污染主要方式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未经彻底无害处理的人、畜粪便施肥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未经处理的生活污水、医院污水和含有病原体的工业废水进行农田灌溉和利用其污泥施肥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畜尸体处理不当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黑体"/>
              </a:rPr>
              <a:t>2005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年在四川暴发的人感染猪链球菌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CE0F-3ADB-4BE7-9FAE-EF430975621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4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307A-990F-4D49-9A50-62520D4CAEE3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2195640" y="189000"/>
            <a:ext cx="504036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 水体的富营养化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468360" y="1268280"/>
            <a:ext cx="7491240" cy="16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水体的富营养化作用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utrophi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量的氮、磷等营养元素物质进入水体，使水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藻类等浮游生物旺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殖，从而破坏水体的生态平衡的现象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7" name="Picture 4" descr="7e3abea14a2ce781471064e6"/>
          <p:cNvPicPr/>
          <p:nvPr/>
        </p:nvPicPr>
        <p:blipFill>
          <a:blip r:embed="rId1"/>
          <a:stretch/>
        </p:blipFill>
        <p:spPr>
          <a:xfrm>
            <a:off x="6553080" y="4038480"/>
            <a:ext cx="2256120" cy="157824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329256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3ECD-0DEC-4EC9-BE15-B4C6F7BD711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1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1034-A686-42CA-8B5C-32044A0BFD56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0" y="333360"/>
            <a:ext cx="9144000" cy="4529160"/>
          </a:xfrm>
          <a:prstGeom prst="rect">
            <a:avLst/>
          </a:prstGeom>
          <a:solidFill>
            <a:srgbClr val="cc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buClr>
                <a:srgbClr val="ff66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水体的富营养化表现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体外观呈色，变浊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中散发出不良气味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解氧含量下降。 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生生物死亡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生藻毒素。水溶性和耐热性，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一种肝毒素，是肝癌的强烈促癌剂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污染饮用水源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66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营养化水体中藻类主要为蓝细菌（蓝藻）和绿藻，有鱼腥藻属、微囊藻属、颤藻等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7BD1-5C92-4AC0-8B71-63D14B3E562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13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2CD2-DEBB-4A9A-8B3C-31E5D656746B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14" name="Picture 2" descr="W020070531561411645724"/>
          <p:cNvPicPr/>
          <p:nvPr/>
        </p:nvPicPr>
        <p:blipFill>
          <a:blip r:embed="rId1"/>
          <a:stretch/>
        </p:blipFill>
        <p:spPr>
          <a:xfrm>
            <a:off x="1476360" y="907920"/>
            <a:ext cx="6629400" cy="497376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3"/>
          <p:cNvSpPr/>
          <p:nvPr/>
        </p:nvSpPr>
        <p:spPr>
          <a:xfrm>
            <a:off x="3962520" y="533520"/>
            <a:ext cx="2971800" cy="914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31b6fd"/>
          </a:solidFill>
          <a:ln w="9360">
            <a:solidFill>
              <a:srgbClr val="ff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太湖湖畔漂浮着蓝藻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5:09:31Z</dcterms:created>
  <dc:creator>swjfm</dc:creator>
  <dc:description/>
  <dc:language>en-US</dc:language>
  <cp:lastModifiedBy>xh</cp:lastModifiedBy>
  <cp:lastPrinted>1997-03-02T15:35:10Z</cp:lastPrinted>
  <dcterms:modified xsi:type="dcterms:W3CDTF">2019-03-13T06:42:47Z</dcterms:modified>
  <cp:revision>409</cp:revision>
  <dc:subject/>
  <dc:title>幻灯片 1</dc:title>
</cp:coreProperties>
</file>