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ACA-623D-4638-9435-A092FE36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A54-4CCB-4CA7-AD00-BC30ED18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5D5-39A4-4445-B118-867F2EC3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CE3-1C63-426A-8E3D-C5736F3A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506B-1535-4B9B-8251-B93061DA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BE16-D364-4BB8-8DE1-29AD99B6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4CE6-E5B0-41CE-A2B0-916ACA5A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E71D-C390-40DF-88FA-BEF50B73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9B35-A817-496D-8C86-37D0BC2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9AEB-E104-4CC4-A844-3156E9DC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F55D-3A34-42C3-BEA8-C98EDFC2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B1D-D641-430D-A3FC-3A1E6AC0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42C5-CBD4-4969-8B49-D362A50F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5249-D146-4472-9DE1-1F7A277E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6325-5E8B-4FBA-9028-6142742E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2AFC-4C6C-49CB-A1FD-1CF0CAB4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95EC-EC90-4EC0-832A-5FCAEEFA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F7B-2F25-4CFE-993C-A7E1CBA0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F14-57E5-41DC-B582-6D77BE95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5E8-7B75-40AE-BC51-8EC9DD01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D46-99B7-4D10-BD6B-EAE8C3B3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051-D991-4E09-AD1D-B8411E36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EB7-AF20-4FF6-BFE9-C040E14A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A7C-68EF-4651-99B9-3F63AAE9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2_two_rings_hearts_md_wht"/>
          <p:cNvPicPr/>
          <p:nvPr/>
        </p:nvPicPr>
        <p:blipFill>
          <a:blip r:embed="rId2"/>
          <a:stretch/>
        </p:blipFill>
        <p:spPr>
          <a:xfrm>
            <a:off x="4038480" y="5943600"/>
            <a:ext cx="1006560" cy="914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河山图标"/>
          <p:cNvPicPr/>
          <p:nvPr/>
        </p:nvPicPr>
        <p:blipFill>
          <a:blip r:embed="rId3"/>
          <a:stretch/>
        </p:blipFill>
        <p:spPr>
          <a:xfrm>
            <a:off x="266688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happy_anniversary2"/>
          <p:cNvPicPr/>
          <p:nvPr/>
        </p:nvPicPr>
        <p:blipFill>
          <a:blip r:embed="rId4"/>
          <a:stretch/>
        </p:blipFill>
        <p:spPr>
          <a:xfrm>
            <a:off x="762120" y="0"/>
            <a:ext cx="7619760" cy="96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D0F6-EA0E-4438-9EE5-5B86C36235DE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BCFA-DD67-45CF-A456-B1B9E1DC19F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onkey_business_ape"/>
          <p:cNvPicPr/>
          <p:nvPr/>
        </p:nvPicPr>
        <p:blipFill>
          <a:blip r:embed="rId2"/>
          <a:stretch/>
        </p:blipFill>
        <p:spPr>
          <a:xfrm>
            <a:off x="0" y="0"/>
            <a:ext cx="1600200" cy="513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ape_with_laptop_md_wht"/>
          <p:cNvPicPr/>
          <p:nvPr/>
        </p:nvPicPr>
        <p:blipFill>
          <a:blip r:embed="rId3"/>
          <a:stretch/>
        </p:blipFill>
        <p:spPr>
          <a:xfrm>
            <a:off x="8115480" y="58294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河山图标"/>
          <p:cNvPicPr/>
          <p:nvPr/>
        </p:nvPicPr>
        <p:blipFill>
          <a:blip r:embed="rId4"/>
          <a:stretch/>
        </p:blipFill>
        <p:spPr>
          <a:xfrm>
            <a:off x="335268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1"/>
          <p:cNvPicPr/>
          <p:nvPr/>
        </p:nvPicPr>
        <p:blipFill>
          <a:blip r:embed="rId5"/>
          <a:stretch/>
        </p:blipFill>
        <p:spPr>
          <a:xfrm>
            <a:off x="2971800" y="6350040"/>
            <a:ext cx="3581280" cy="507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4D55-8686-4BF5-8BDE-AD612F582B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1046-6EC9-4CB0-8E01-8B598E32A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bear_business_spacer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cuddly_cow_spacer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占位符 3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547F-CC1D-443B-B124-68913BC20C8E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灯片编号占位符 5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311C-78E0-4C76-8FEB-784F7217EC0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692360" y="103176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42920" y="1978200"/>
            <a:ext cx="7561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任课教师：谢    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话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3583873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-mai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huixie@sdau.edu.c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办公室：校本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号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3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A567-8397-4938-B45E-14951B7E50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6227640" y="6110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19AC-D5B9-4F21-9F8A-1F7B9AD16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08000" y="981000"/>
            <a:ext cx="8820000" cy="376416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部分内容要强记：比如生物修复概念、机理及其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课后注意复习：温故而知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掌握重点内容：重点内容不一定要考试，但 需要掌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端正学习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天学的东西不可能马上用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考研和考博储备知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3059280" y="189000"/>
            <a:ext cx="28080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、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CF37-C9A3-48FD-9AC5-7412681B5D49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BDCB-DB40-4655-8E55-FBCEFDF13D4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0" y="189000"/>
            <a:ext cx="9217080" cy="328644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加强课堂教学管理改善教风学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稳定课堂秩序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课教师是课堂管理的第一责任人，任课教师在授课的同时，负责管理课堂秩序，纠正学生旷课、迟到、早退、睡觉、聊天、玩手机、吃零食等不良行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严格过程管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任课教师要加强教学过程管理，采取适当的方式进行考勤，严格执行学校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旷课三次及以上者不得参加所修课程考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的规定。学生上课要认真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记录课堂笔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任课教师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定期检查学生的课堂笔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原则上要求每讲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时检查一次，把学生听课笔记检查情况作为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程平时成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重要组成部分（至少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时成绩的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生上课无听课笔记者，平时成绩按零分计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任课教师要对学生的课堂笔记评阅打分，并结合作业、课堂测验等加强平时成绩的管理，平时成绩不合格者，不能参加所修课程的结课考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严肃学生上课纪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互尊重对方；保持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3E5D-FF48-46D4-9AB8-B5F61D846631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34EE-DA10-4A03-846E-19587E75ECB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14200" y="785880"/>
            <a:ext cx="856944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课程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环境工程专业的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专业特色课，性质为选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本课程的学习可以使学生了解和掌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污染物对生物的影响、污染物的生物效应检测、环境质量的生物监测与评价、环境污染的生物净化原理和生物修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使学生能够充分理解并应用生物修复技术及其控制条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CF16-9A19-44BD-992D-39061DF65493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C237-1784-45A0-8FE7-D5875633690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1125360"/>
            <a:ext cx="9144000" cy="37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主要参考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[1]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孔繁祥主编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》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世纪教材，  高等教育出版社，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000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耿春女主编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国建材工业出版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5.5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[3]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段昌群主编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版 科学出版社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[4]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熊治廷 主编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化学工业出版社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第    一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[5]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李顺鹏主编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，中国农业出版社，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002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[6]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学新 浙江大学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精品课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7848-2297-4295-9259-7CDEB37E5741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318F-02C0-4A2F-8809-15547C476A9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25360"/>
          <a:ext cx="9144000" cy="4607280"/>
        </p:xfrm>
        <a:graphic>
          <a:graphicData uri="http://schemas.openxmlformats.org/drawingml/2006/table">
            <a:tbl>
              <a:tblPr/>
              <a:tblGrid>
                <a:gridCol w="7020000"/>
                <a:gridCol w="2124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授课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安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绪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一章  环境污染物在生态系统中的行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二章  污染物对生物的影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三章  污染物的生物效应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四章  环境质量的生物监测与生物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第五章  环境污染生物净化的原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第六章  污染环境的生物修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总讲授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67"/>
          <p:cNvSpPr/>
          <p:nvPr/>
        </p:nvSpPr>
        <p:spPr>
          <a:xfrm>
            <a:off x="2571840" y="3556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主要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0DD9-CD51-45A7-B325-E01251AC875C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16CF-79E3-4AA1-A052-EB3E418F8B3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0" y="4797360"/>
            <a:ext cx="4716360" cy="71928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篇 环境污染的生物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900000" y="1125360"/>
            <a:ext cx="3097440" cy="93528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绪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0" y="2781360"/>
            <a:ext cx="4140360" cy="79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篇 环境污染的生物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959280" y="260280"/>
            <a:ext cx="5184720" cy="45385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绪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环境科学中重大的环境问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环境生物学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的形成与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的研究对象与任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的研究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与相关学科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国环境生物学的优先研究领域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BF1D-06B0-4E56-8D6B-F05723F69C2F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D8BA-3632-42B7-A439-3965F571A2C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2"/>
          <p:cNvSpPr/>
          <p:nvPr/>
        </p:nvSpPr>
        <p:spPr>
          <a:xfrm>
            <a:off x="0" y="4221000"/>
            <a:ext cx="4500720" cy="71928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篇 环境污染的生物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0" y="1916280"/>
            <a:ext cx="4175280" cy="934920"/>
          </a:xfrm>
          <a:custGeom>
            <a:avLst/>
            <a:gdLst>
              <a:gd name="textAreaLeft" fmla="*/ 0 w 4175280"/>
              <a:gd name="textAreaRight" fmla="*/ 4175640 w 41752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2" y="0"/>
                </a:lnTo>
                <a:lnTo>
                  <a:pt x="21600" y="10800"/>
                </a:lnTo>
                <a:lnTo>
                  <a:pt x="164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篇 环境污染的生物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395280" y="836640"/>
            <a:ext cx="2305080" cy="79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959280" y="1628640"/>
            <a:ext cx="5184720" cy="209664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章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环境污染物在生态系统中的行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章 污染物对生物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章 污染物的生物效应检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章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环境质量的生物监测与生物评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4687920" y="3921120"/>
            <a:ext cx="372744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14DE-AC5D-4948-930E-D8BDB2B53B51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03EB-E997-4489-91C7-07B6ECA987F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"/>
          <p:cNvSpPr/>
          <p:nvPr/>
        </p:nvSpPr>
        <p:spPr>
          <a:xfrm>
            <a:off x="0" y="1773360"/>
            <a:ext cx="5724360" cy="7189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篇 环境污染的生物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3429000"/>
            <a:ext cx="4102200" cy="934920"/>
          </a:xfrm>
          <a:custGeom>
            <a:avLst/>
            <a:gdLst>
              <a:gd name="textAreaLeft" fmla="*/ 0 w 4102200"/>
              <a:gd name="textAreaRight" fmla="*/ 4102560 w 4102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篇 环境污染的生物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395280" y="692280"/>
            <a:ext cx="2089080" cy="79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708360" y="2852640"/>
            <a:ext cx="5435640" cy="21283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章 环境污染生物净化的原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六章 污染环境的生物修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第七章 现代生物技术与环境污染治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第八章  环境生物学在环境影响评价中的应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6711-D4AB-4A8F-8CCC-58FF671E05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146-5D4B-4352-84C6-377503885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981000"/>
            <a:ext cx="8567640" cy="52117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本课程的成绩核算由两部分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成绩 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笔记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无课堂笔记者，平时成绩为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题 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程论文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土壤污染的生物修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闭卷考试成绩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考试题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词解释、选择、填空、简述和论述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4726800" y="201600"/>
            <a:ext cx="414000" cy="70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本课程考核方式和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6:07:38Z</dcterms:created>
  <dc:creator>pc4</dc:creator>
  <dc:description/>
  <dc:language>en-US</dc:language>
  <cp:lastModifiedBy>xh</cp:lastModifiedBy>
  <dcterms:modified xsi:type="dcterms:W3CDTF">2019-02-20T07:05:07Z</dcterms:modified>
  <cp:revision>286</cp:revision>
  <dc:subject/>
  <dc:title>幻灯片 1</dc:title>
</cp:coreProperties>
</file>