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2B6-1501-4CD7-A541-6FF22E60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CA2E-D76C-4847-BBDC-63D6D415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477-CA40-4064-9D1D-533CD47C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A0E-CA69-4E95-BDD8-804A1B0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B9B-7A49-4E34-9865-D2552F53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340-22C4-4856-A7DF-E01A454F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177-A908-4C76-AF29-D17C4C8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4DD-8E4D-4620-BFA5-48104FC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2F9-6E2F-48C9-99AC-D045AFD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702-C4B0-4FA3-921A-4FF396C4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234-E9CE-4D6A-8A8F-6B22E8A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07E-847A-4A9A-B39A-0B534F7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3BA-FE75-4AF0-A417-3493A32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C08-0CC4-4DAE-9825-E9255B2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F9C4-7BA2-44BB-8D70-909C1D1E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FD4-B98A-4370-A445-D4C7A92E2D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4DA-36CC-4377-A6C8-A0A4DB73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9005-3_G0022_P001-GG88_COM"/>
          <p:cNvPicPr/>
          <p:nvPr/>
        </p:nvPicPr>
        <p:blipFill>
          <a:blip r:embed="rId1"/>
          <a:stretch/>
        </p:blipFill>
        <p:spPr>
          <a:xfrm>
            <a:off x="755640" y="692280"/>
            <a:ext cx="73152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m.leha.com/Uploads/editor/558a8fb8685b8.jpg"/>
          <p:cNvPicPr/>
          <p:nvPr/>
        </p:nvPicPr>
        <p:blipFill>
          <a:blip r:embed="rId1"/>
          <a:stretch/>
        </p:blipFill>
        <p:spPr>
          <a:xfrm>
            <a:off x="4381560" y="24210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g2.jc001.cn/img/001/1/1307/1351f8d57a16817.jpg"/>
          <p:cNvPicPr/>
          <p:nvPr/>
        </p:nvPicPr>
        <p:blipFill>
          <a:blip r:embed="rId2"/>
          <a:stretch/>
        </p:blipFill>
        <p:spPr>
          <a:xfrm>
            <a:off x="282600" y="2897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727280" y="59500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萝吸收苯、三氯乙烯、甲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p3.so.qhmsg.com/bdr/_240_/t01afc3d0e6ea8896b8.jpg"/>
          <p:cNvPicPr/>
          <p:nvPr/>
        </p:nvPicPr>
        <p:blipFill>
          <a:blip r:embed="rId3"/>
          <a:stretch/>
        </p:blipFill>
        <p:spPr>
          <a:xfrm>
            <a:off x="2004840" y="46080"/>
            <a:ext cx="40798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5638680" y="2666880"/>
            <a:ext cx="198144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r02"/>
          <p:cNvPicPr/>
          <p:nvPr/>
        </p:nvPicPr>
        <p:blipFill>
          <a:blip r:embed="rId1"/>
          <a:stretch/>
        </p:blipFill>
        <p:spPr>
          <a:xfrm>
            <a:off x="179280" y="38088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5146560" y="838080"/>
            <a:ext cx="3676680" cy="1654200"/>
          </a:xfrm>
          <a:prstGeom prst="wedgeEllipseCallout">
            <a:avLst>
              <a:gd name="adj1" fmla="val -98847"/>
              <a:gd name="adj2" fmla="val 101939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吸收二氧化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r01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06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r11"/>
          <p:cNvPicPr/>
          <p:nvPr/>
        </p:nvPicPr>
        <p:blipFill>
          <a:blip r:embed="rId1"/>
          <a:stretch/>
        </p:blipFill>
        <p:spPr>
          <a:xfrm>
            <a:off x="388800" y="291960"/>
            <a:ext cx="8366400" cy="62755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17236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9016-3_G0022_P001-GG88_COM"/>
          <p:cNvPicPr/>
          <p:nvPr/>
        </p:nvPicPr>
        <p:blipFill>
          <a:blip r:embed="rId1"/>
          <a:stretch/>
        </p:blipFill>
        <p:spPr>
          <a:xfrm>
            <a:off x="250920" y="0"/>
            <a:ext cx="592452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"/>
          <p:cNvSpPr/>
          <p:nvPr/>
        </p:nvSpPr>
        <p:spPr>
          <a:xfrm>
            <a:off x="5867280" y="260280"/>
            <a:ext cx="198144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"/>
          <p:cNvSpPr/>
          <p:nvPr/>
        </p:nvSpPr>
        <p:spPr>
          <a:xfrm>
            <a:off x="5791320" y="838080"/>
            <a:ext cx="1981080" cy="53352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吊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p0.so.qhimgs1.com/bdr/_240_/t01ffc5426e9cd2eae4.jpg"/>
          <p:cNvPicPr/>
          <p:nvPr/>
        </p:nvPicPr>
        <p:blipFill>
          <a:blip r:embed="rId1"/>
          <a:stretch/>
        </p:blipFill>
        <p:spPr>
          <a:xfrm>
            <a:off x="108000" y="115920"/>
            <a:ext cx="4464000" cy="333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p1.so.qhimgs1.com/bdr/_240_/t010da2ba62b97bbead.jpg"/>
          <p:cNvPicPr/>
          <p:nvPr/>
        </p:nvPicPr>
        <p:blipFill>
          <a:blip r:embed="rId2"/>
          <a:stretch/>
        </p:blipFill>
        <p:spPr>
          <a:xfrm>
            <a:off x="4776840" y="2001960"/>
            <a:ext cx="4554360" cy="343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p1.so.qhmsg.com/bdr/_240_/t01633e866ecdfcd756.jpg"/>
          <p:cNvPicPr/>
          <p:nvPr/>
        </p:nvPicPr>
        <p:blipFill>
          <a:blip r:embed="rId3"/>
          <a:stretch/>
        </p:blipFill>
        <p:spPr>
          <a:xfrm>
            <a:off x="395280" y="3454560"/>
            <a:ext cx="4857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784270166214849"/>
          <p:cNvPicPr/>
          <p:nvPr/>
        </p:nvPicPr>
        <p:blipFill>
          <a:blip r:embed="rId1"/>
          <a:stretch/>
        </p:blipFill>
        <p:spPr>
          <a:xfrm>
            <a:off x="228600" y="263520"/>
            <a:ext cx="8686800" cy="6332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5791320" y="549360"/>
            <a:ext cx="1981080" cy="1079280"/>
          </a:xfrm>
          <a:prstGeom prst="wedgeEllipseCallout">
            <a:avLst>
              <a:gd name="adj1" fmla="val -43750"/>
              <a:gd name="adj2" fmla="val 155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薄荷杀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p4.so.qhmsg.com/bdr/_240_/t012ffa3517a05a48e9.jpg"/>
          <p:cNvPicPr/>
          <p:nvPr/>
        </p:nvPicPr>
        <p:blipFill>
          <a:blip r:embed="rId1"/>
          <a:stretch/>
        </p:blipFill>
        <p:spPr>
          <a:xfrm>
            <a:off x="395280" y="836640"/>
            <a:ext cx="48610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p1.ssl.qhmsg.com/dr/270_500_/t01c3fb1ea7419f36b0.jpg?size=268x402"/>
          <p:cNvPicPr/>
          <p:nvPr/>
        </p:nvPicPr>
        <p:blipFill>
          <a:blip r:embed="rId2"/>
          <a:stretch/>
        </p:blipFill>
        <p:spPr>
          <a:xfrm>
            <a:off x="5580000" y="836640"/>
            <a:ext cx="2552760" cy="38289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2484360" y="4665600"/>
            <a:ext cx="4680000" cy="1355760"/>
          </a:xfrm>
          <a:prstGeom prst="wedgeEllipseCallout">
            <a:avLst>
              <a:gd name="adj1" fmla="val 10615"/>
              <a:gd name="adj2" fmla="val -184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龙舌兰：吸收三氯乙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p2.so.qhimgs1.com/bdr/_240_/t012bd3e22a42171082.jpg"/>
          <p:cNvPicPr/>
          <p:nvPr/>
        </p:nvPicPr>
        <p:blipFill>
          <a:blip r:embed="rId1"/>
          <a:stretch/>
        </p:blipFill>
        <p:spPr>
          <a:xfrm>
            <a:off x="1835280" y="-171360"/>
            <a:ext cx="5443560" cy="361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pic.to8to.com/attch/day_140712/20140712_fa414ebb70f6e13cd830v4THAPAyaL3F.jpg"/>
          <p:cNvPicPr/>
          <p:nvPr/>
        </p:nvPicPr>
        <p:blipFill>
          <a:blip r:embed="rId2"/>
          <a:stretch/>
        </p:blipFill>
        <p:spPr>
          <a:xfrm>
            <a:off x="2765520" y="2852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-684360" y="4226040"/>
            <a:ext cx="4680000" cy="1355760"/>
          </a:xfrm>
          <a:prstGeom prst="wedgeEllipseCallout">
            <a:avLst>
              <a:gd name="adj1" fmla="val 10615"/>
              <a:gd name="adj2" fmla="val -184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雏菊：吸收三氯乙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7162920" y="692280"/>
            <a:ext cx="1981080" cy="1400040"/>
          </a:xfrm>
          <a:prstGeom prst="wedgeEllipseCallout">
            <a:avLst>
              <a:gd name="adj1" fmla="val -162981"/>
              <a:gd name="adj2" fmla="val 18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桂花吸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455760" y="2092320"/>
            <a:ext cx="8232480" cy="2606760"/>
            <a:chOff x="455760" y="2092320"/>
            <a:chExt cx="8232480" cy="2606760"/>
          </a:xfrm>
        </p:grpSpPr>
        <p:sp>
          <p:nvSpPr>
            <p:cNvPr id="68" name="Rectangle 4"/>
            <p:cNvSpPr/>
            <p:nvPr/>
          </p:nvSpPr>
          <p:spPr>
            <a:xfrm>
              <a:off x="455760" y="2092320"/>
              <a:ext cx="8232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455760" y="2092320"/>
              <a:ext cx="82324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6" descr="桂花树1"/>
          <p:cNvPicPr/>
          <p:nvPr/>
        </p:nvPicPr>
        <p:blipFill>
          <a:blip r:embed="rId1"/>
          <a:stretch/>
        </p:blipFill>
        <p:spPr>
          <a:xfrm>
            <a:off x="465120" y="549360"/>
            <a:ext cx="6335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丹桂"/>
          <p:cNvPicPr/>
          <p:nvPr/>
        </p:nvPicPr>
        <p:blipFill>
          <a:blip r:embed="rId1"/>
          <a:stretch/>
        </p:blipFill>
        <p:spPr>
          <a:xfrm>
            <a:off x="1143000" y="1143000"/>
            <a:ext cx="2514600" cy="262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金桂花1"/>
          <p:cNvPicPr/>
          <p:nvPr/>
        </p:nvPicPr>
        <p:blipFill>
          <a:blip r:embed="rId2"/>
          <a:stretch/>
        </p:blipFill>
        <p:spPr>
          <a:xfrm>
            <a:off x="3733920" y="1143000"/>
            <a:ext cx="2514600" cy="262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银桂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>
            <a:off x="2700360" y="4495680"/>
            <a:ext cx="3090960" cy="533520"/>
          </a:xfrm>
          <a:prstGeom prst="wedgeEllipseCallout">
            <a:avLst>
              <a:gd name="adj1" fmla="val 6250"/>
              <a:gd name="adj2" fmla="val -415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金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>
            <a:off x="6095160" y="4800600"/>
            <a:ext cx="2514600" cy="533520"/>
          </a:xfrm>
          <a:prstGeom prst="wedgeEllipseCallout">
            <a:avLst>
              <a:gd name="adj1" fmla="val 11740"/>
              <a:gd name="adj2" fmla="val -445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银桂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1443777470920817"/>
          <p:cNvPicPr/>
          <p:nvPr/>
        </p:nvPicPr>
        <p:blipFill>
          <a:blip r:embed="rId1"/>
          <a:stretch/>
        </p:blipFill>
        <p:spPr>
          <a:xfrm>
            <a:off x="179280" y="11160"/>
            <a:ext cx="4605480" cy="36734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6292800" y="476280"/>
            <a:ext cx="1981080" cy="1198440"/>
          </a:xfrm>
          <a:prstGeom prst="wedgeEllipseCallout">
            <a:avLst>
              <a:gd name="adj1" fmla="val -162981"/>
              <a:gd name="adj2" fmla="val 18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铁树吸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p2.so.qhmsg.com/bdr/_240_/t011a730d21946a4757.jpg"/>
          <p:cNvPicPr/>
          <p:nvPr/>
        </p:nvPicPr>
        <p:blipFill>
          <a:blip r:embed="rId2"/>
          <a:stretch/>
        </p:blipFill>
        <p:spPr>
          <a:xfrm>
            <a:off x="4067280" y="3573360"/>
            <a:ext cx="4235400" cy="294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p0.so.qhimgs1.com/bdr/_240_/t016f8a1569bd94bd9a.jpg"/>
          <p:cNvPicPr/>
          <p:nvPr/>
        </p:nvPicPr>
        <p:blipFill>
          <a:blip r:embed="rId3"/>
          <a:stretch/>
        </p:blipFill>
        <p:spPr>
          <a:xfrm>
            <a:off x="611280" y="39038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2:06:49Z</dcterms:created>
  <dc:creator>xiehui</dc:creator>
  <dc:description/>
  <dc:language>en-US</dc:language>
  <cp:lastModifiedBy>xh</cp:lastModifiedBy>
  <dcterms:modified xsi:type="dcterms:W3CDTF">2018-03-19T09:35:11Z</dcterms:modified>
  <cp:revision>7</cp:revision>
  <dc:subject/>
  <dc:title>幻灯片 1</dc:title>
</cp:coreProperties>
</file>