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13.gif" ContentType="image/gif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5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</p:sldIdLst>
  <p:sldSz cx="9144000" cy="6858000"/>
  <p:notesSz cx="6858000" cy="9147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B6150-0822-4000-BE21-61232E715C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E3B2E-3F1E-4AEF-A2B3-D1EF0A21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B597E-78B6-462A-ACE9-2965B06C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3DFFB-DD1F-42DB-A13F-8AFCE84C76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05FF6-5527-40F4-9949-2A43474D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A590C-6410-4326-97B4-E73FF45F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B7860-4CD9-45EF-A664-37806D0F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86804-E98D-41D4-8E5C-9DD29001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63AD2-CA18-46E1-8E4D-E9AE1DF2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23FD9-AB6B-4C96-809A-6B449DB9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C27A8-3A26-4C19-AA3A-7255B0E8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EECE8-F10F-47EB-939D-0AE83184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9EBC7-A12F-4A53-8759-30D5CC66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E08DB-D064-4EB1-9E9B-46939B7B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7E91F-9374-46FD-858C-44465750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A042F-6E1A-49B8-853E-F84F5019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C262A-D4C0-4560-8F4F-DF7DC6555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E2A7F6-DD3A-49B1-95CE-402AE023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4805C4-4A82-4B9A-A3EE-789CE965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7D075E-7A68-42D1-80E1-647950FF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968FC1-CBB0-4CDD-A1C7-1CC71148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974324-E5BB-4DBF-A437-EB8E4A3A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A773B-A617-4C56-91F4-836BD5EA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60F86B-2F33-4849-A856-BC0E8A9C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0DC343-7533-47E9-9E16-8BCF303B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D44108-9220-4E8A-A4AC-C7497127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B89795-59C3-482E-8D99-51BB6B8D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1D8101-8752-4E2E-B228-19DD81D8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C01C63-3A4F-4651-99C2-125D64B5B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B69AF7-43E7-4B05-AABE-D6864442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6863E1-5C61-4787-8009-27996B551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47C120-5209-45B2-BB2B-099BAA45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1057F6-93EB-418E-ADA0-31A8BBE3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EBB3F-D05B-4C5C-8DD3-351E0316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7DCC78-AD6A-4E79-A391-90AFF2AA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5A85A5-8367-4716-BB75-04E1A1F5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A527FE-8DA2-4B24-A589-4C00BF6C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679C95-D01C-4690-9A35-6DD8F638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F0BD83-8234-43F2-B581-3063AD0B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B2FEF7-93F0-44CF-A3CA-67BC45DC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D22573-8C35-4868-BC4D-98581A31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CE9484-3B8A-4547-8239-19FAF613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B1B389-0B4D-4794-9CD9-A92F825E6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6823CF-F21F-43BA-907C-03A554ADF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08226-A7CC-4374-B009-7EA7D9713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1C727D-BDB3-4AB1-A16B-63F947CC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9E3C9F-3D7D-4B40-B48D-2E48DA2F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6B0E33-7D86-4C43-AAB4-127A9BE7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0AE395-1880-486B-B4A0-4C3628C9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3C4F8A-8C67-4C10-A903-F13D934A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809C31-96B2-4C19-8FD6-4BD90C3A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8EE2B8-F3F5-4367-B845-592CC5EE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8F26CF-3F57-4B6F-A96E-6D2169C3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2CF55D-FE76-4C29-BCAB-4044AAD9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DA5AAD-78E6-4817-A1EE-2CD681BF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A60CC-32FC-4C96-836F-31250E08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531123-357B-412D-B69E-9F4F22277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8241B4-AA33-4A67-A9A0-891011D7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39F59F-E55A-486A-8602-19138816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4B0149-F638-4832-966F-8785AF7E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5BFD95-D0CD-4F6A-80B2-9CF00972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FA0A0C-78A8-4891-9562-B7F712C6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CF1623-F6AE-45D7-ACFD-65E84D9F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5A1CB5-57E0-4A27-82C4-541151AE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D1824C-6C87-4A33-953A-46E5D76F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3B2513-D3A6-446D-BDED-C1F20071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44B6D-BFBA-497F-AF0F-2BB85C25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385949-20AE-484C-8558-58E543EC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3694EA-20AF-4DF4-BA97-24F68C368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371A86-6A12-49FE-B6BF-012188FBB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017874-441A-4AAF-95B3-7ECD7F30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66EDCA-7E96-4D4A-B051-E6E47DDB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1A8465-CA39-4BC5-8D1D-C5328A8C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D2CA7A-96FB-4363-9FB9-3A958DED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0922E4-4A16-4D4F-B51C-90F9D1EE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3D9E44-97B2-403B-8765-EF118F05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E836BA-4376-4E6F-B085-F1569A08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B41F0-1B73-4B2A-A4C0-B1EAEEC9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1D3B70-FBBA-41D0-9C1C-76C8339C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2D442B-E654-40A5-9AAF-B77E40C5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F1B3DE-1D0F-48EB-BAAF-89E4C759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90CF36-6F1D-4ED8-B37A-C2AD83EB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2F4795-C8DB-4AB0-AE44-AC4D9534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A72489-960A-4319-A004-4E211091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EA95F1-BC97-41C5-B800-BC8B6525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F6BA84-58F7-4895-8EF8-7756CB14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A11AF6-55FA-42BC-8E26-E773D91F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32A09D-EC50-4489-AC50-AD5E33C6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A15A8-1516-4867-AD84-A2001050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59E7BF-E23C-4DB0-AE7E-57FF9A48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F20EA7-57BC-475F-A676-DA06860D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EA77DD-DC87-4EA4-95E7-546BA5D2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8FB12C-3C7E-47B1-8AAE-5BE5BA11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999552-0785-4D8F-946D-622F49C7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68A2BF-3EE8-4AF8-B1F8-B131C24B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791872-E813-4495-965B-6298D5C7C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4400" y="5950080"/>
            <a:ext cx="9129600" cy="90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29600" cy="907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0" y="6381360"/>
            <a:ext cx="1116000" cy="476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DDE2-94FA-44C0-B71D-1B28D505559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8244000" y="6381360"/>
            <a:ext cx="900000" cy="476280"/>
          </a:xfrm>
          <a:prstGeom prst="rect">
            <a:avLst/>
          </a:prstGeom>
          <a:solidFill>
            <a:srgbClr val="ffffff"/>
          </a:solidFill>
          <a:ln w="57240">
            <a:solidFill>
              <a:srgbClr val="6666ff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5F80-D9B9-4ECF-AA33-91D8985BE6F7}" type="slidenum"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"/>
          <p:cNvSpPr/>
          <p:nvPr/>
        </p:nvSpPr>
        <p:spPr>
          <a:xfrm>
            <a:off x="3419640" y="189000"/>
            <a:ext cx="259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环境生物学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第一章</a:t>
            </a:r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grpSp>
        <p:nvGrpSpPr>
          <p:cNvPr id="4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4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4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4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7EA2-0735-47DA-A2CE-5372973236E3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BDB9-20C9-4593-8934-1B150F845FDF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4400" y="5950080"/>
            <a:ext cx="9129600" cy="90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0" y="0"/>
            <a:ext cx="9129600" cy="907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419640" y="189000"/>
            <a:ext cx="259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环境生物学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第一章</a:t>
            </a:r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grpSp>
        <p:nvGrpSpPr>
          <p:cNvPr id="93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94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95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97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98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DF98-F2F7-4A9A-B813-8B026DEED055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94CA-6A24-4B6B-B204-953137CAABCF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41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42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44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45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C150-B897-41EB-A903-061481B6B3A3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DDA0-2500-44E4-8C88-3C0761B6296F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grpSp>
        <p:nvGrpSpPr>
          <p:cNvPr id="188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89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190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191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192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193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89F3-B581-446E-8EE1-80C6251D0B21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754C-308A-4B8C-ACE0-52F8C2687318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grpSp>
        <p:nvGrpSpPr>
          <p:cNvPr id="236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37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238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240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241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C6C7-1443-4732-89B8-AB66461858B9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8E19-78BC-47AE-AEF4-AFFD01462982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grpSp>
        <p:nvGrpSpPr>
          <p:cNvPr id="284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8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28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28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28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ACBA-70A4-4684-B755-AC264B15E950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BCC5-29A5-456E-87E8-679E6299B7AF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grpSp>
        <p:nvGrpSpPr>
          <p:cNvPr id="332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3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33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33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33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337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C4C7-852E-48B1-B2B7-59F32EC0B508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29EC-7E64-4335-928D-98F96AD252DF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hiphotos.baidu.com/nanbin/pic/item/7b05839437e5e814d21b7008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EF3A-C183-445E-9E00-F52A0F055CC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80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E92C-75C8-4C95-A869-AA6909E24104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0" y="170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五节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生物对污染物在环境中行为的影响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9DC2-418A-4BDD-AD6B-A34EBDD03AB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17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02FB-3676-43E9-8625-71D02F7FBC37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18" name="Picture 2" descr="W020070531561410488810"/>
          <p:cNvPicPr/>
          <p:nvPr/>
        </p:nvPicPr>
        <p:blipFill>
          <a:blip r:embed="rId1"/>
          <a:stretch/>
        </p:blipFill>
        <p:spPr>
          <a:xfrm>
            <a:off x="1692360" y="1197000"/>
            <a:ext cx="5943600" cy="445752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3"/>
          <p:cNvSpPr/>
          <p:nvPr/>
        </p:nvSpPr>
        <p:spPr>
          <a:xfrm>
            <a:off x="3200400" y="838080"/>
            <a:ext cx="396252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蓝藻漂浮的无锡十八湾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98B0-1794-48DE-9D0C-5659BFF3E2C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1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B805-73B5-4663-9415-734C47930CAA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22" name="Picture 2" descr="W020070531561410653915"/>
          <p:cNvPicPr/>
          <p:nvPr/>
        </p:nvPicPr>
        <p:blipFill>
          <a:blip r:embed="rId1"/>
          <a:stretch/>
        </p:blipFill>
        <p:spPr>
          <a:xfrm>
            <a:off x="1981080" y="1600200"/>
            <a:ext cx="5639040" cy="4229280"/>
          </a:xfrm>
          <a:prstGeom prst="rect">
            <a:avLst/>
          </a:prstGeom>
          <a:ln w="0">
            <a:noFill/>
          </a:ln>
        </p:spPr>
      </p:pic>
      <p:sp>
        <p:nvSpPr>
          <p:cNvPr id="423" name="AutoShape 3"/>
          <p:cNvSpPr/>
          <p:nvPr/>
        </p:nvSpPr>
        <p:spPr>
          <a:xfrm>
            <a:off x="2786040" y="533520"/>
            <a:ext cx="5138640" cy="1066680"/>
          </a:xfrm>
          <a:prstGeom prst="cloudCallout">
            <a:avLst>
              <a:gd name="adj1" fmla="val -38254"/>
              <a:gd name="adj2" fmla="val 69939"/>
            </a:avLst>
          </a:prstGeom>
          <a:solidFill>
            <a:srgbClr val="cc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沿湖岸的石墙堤处都涂满了绿色的蓝藻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2853-6DFE-4A55-938B-4EE4CA2BFFC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5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1D8A-554B-4D28-AFB8-C871A5240B3B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26" name="Picture 2" descr="W020070531561411762932"/>
          <p:cNvPicPr/>
          <p:nvPr/>
        </p:nvPicPr>
        <p:blipFill>
          <a:blip r:embed="rId1"/>
          <a:stretch/>
        </p:blipFill>
        <p:spPr>
          <a:xfrm>
            <a:off x="3124080" y="2286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27" name="AutoShape 3"/>
          <p:cNvSpPr/>
          <p:nvPr/>
        </p:nvSpPr>
        <p:spPr>
          <a:xfrm>
            <a:off x="1905120" y="380880"/>
            <a:ext cx="6172200" cy="1828800"/>
          </a:xfrm>
          <a:prstGeom prst="cloudCallout">
            <a:avLst>
              <a:gd name="adj1" fmla="val 14324"/>
              <a:gd name="adj2" fmla="val 105037"/>
            </a:avLst>
          </a:prstGeom>
          <a:solidFill>
            <a:srgbClr val="ff990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无锡十八湾太湖边部分水域积聚了大量的蓝藻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E653-3A7E-44CC-95A0-804ED80F075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9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870F-30D1-428A-8AC8-C8DE850E1F7D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30" name="Picture 2" descr="W020070531561411898899"/>
          <p:cNvPicPr/>
          <p:nvPr/>
        </p:nvPicPr>
        <p:blipFill>
          <a:blip r:embed="rId1"/>
          <a:stretch/>
        </p:blipFill>
        <p:spPr>
          <a:xfrm>
            <a:off x="1905120" y="1143000"/>
            <a:ext cx="6172200" cy="4629240"/>
          </a:xfrm>
          <a:prstGeom prst="rect">
            <a:avLst/>
          </a:prstGeom>
          <a:ln w="0">
            <a:noFill/>
          </a:ln>
        </p:spPr>
      </p:pic>
      <p:sp>
        <p:nvSpPr>
          <p:cNvPr id="431" name="AutoShape 3"/>
          <p:cNvSpPr/>
          <p:nvPr/>
        </p:nvSpPr>
        <p:spPr>
          <a:xfrm>
            <a:off x="3657600" y="304920"/>
            <a:ext cx="2743200" cy="838080"/>
          </a:xfrm>
          <a:prstGeom prst="cloudCallout">
            <a:avLst>
              <a:gd name="adj1" fmla="val -44962"/>
              <a:gd name="adj2" fmla="val 70074"/>
            </a:avLst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无锡十八湾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4FEE-DD95-47DC-BB0D-D06D5D86DAF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33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AAB6-4A73-4190-A428-F54ACF33D632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34" name="Picture 2" descr="W020070531561412078148"/>
          <p:cNvPicPr/>
          <p:nvPr/>
        </p:nvPicPr>
        <p:blipFill>
          <a:blip r:embed="rId1"/>
          <a:stretch/>
        </p:blipFill>
        <p:spPr>
          <a:xfrm>
            <a:off x="1763640" y="1341360"/>
            <a:ext cx="5867640" cy="4400640"/>
          </a:xfrm>
          <a:prstGeom prst="rect">
            <a:avLst/>
          </a:prstGeom>
          <a:ln w="0">
            <a:noFill/>
          </a:ln>
        </p:spPr>
      </p:pic>
      <p:sp>
        <p:nvSpPr>
          <p:cNvPr id="435" name="AutoShape 3"/>
          <p:cNvSpPr/>
          <p:nvPr/>
        </p:nvSpPr>
        <p:spPr>
          <a:xfrm>
            <a:off x="2133720" y="228600"/>
            <a:ext cx="4343400" cy="1219320"/>
          </a:xfrm>
          <a:prstGeom prst="cloudCallout">
            <a:avLst>
              <a:gd name="adj1" fmla="val 21601"/>
              <a:gd name="adj2" fmla="val 220050"/>
            </a:avLst>
          </a:prstGeom>
          <a:solidFill>
            <a:srgbClr val="cc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景观桥下堆积着厚厚的蓝藻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8B39-A019-4AF4-BAEE-4EE3A3E2884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37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43E9-CCEB-4DE0-857C-A6628E527EF0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38" name="Picture 3" descr="7b05839437e5e814d21b70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05264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7e3abea14a35e7814710640d"/>
          <p:cNvPicPr/>
          <p:nvPr/>
        </p:nvPicPr>
        <p:blipFill>
          <a:blip r:embed="rId3"/>
          <a:stretch/>
        </p:blipFill>
        <p:spPr>
          <a:xfrm>
            <a:off x="0" y="1052640"/>
            <a:ext cx="4535640" cy="3546360"/>
          </a:xfrm>
          <a:prstGeom prst="rect">
            <a:avLst/>
          </a:prstGeom>
          <a:ln w="0">
            <a:noFill/>
          </a:ln>
        </p:spPr>
      </p:pic>
      <p:sp>
        <p:nvSpPr>
          <p:cNvPr id="440" name="AutoShape 5"/>
          <p:cNvSpPr/>
          <p:nvPr/>
        </p:nvSpPr>
        <p:spPr>
          <a:xfrm>
            <a:off x="6948360" y="404640"/>
            <a:ext cx="1943280" cy="719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cc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水葫芦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0" y="4724280"/>
            <a:ext cx="91440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滇池、太湖、黄浦江及武汉东湖等著名水体，均出现过水葫芦泛滥成灾的情况，耗费巨资也无法根治。水葫芦给滇池造成损失的案例是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入侵物种危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经典案例之一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日期占位符 2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2409-E611-4B9C-8156-C21AC037743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43" name="灯片编号占位符 3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E2C8-1901-428D-BCB9-C50EDB0F95D3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44" name="Picture 6" descr="01300000336597127012446380852"/>
          <p:cNvPicPr/>
          <p:nvPr/>
        </p:nvPicPr>
        <p:blipFill>
          <a:blip r:embed="rId1"/>
          <a:stretch/>
        </p:blipFill>
        <p:spPr>
          <a:xfrm>
            <a:off x="0" y="549360"/>
            <a:ext cx="8496360" cy="566424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8"/>
          <p:cNvSpPr/>
          <p:nvPr/>
        </p:nvSpPr>
        <p:spPr>
          <a:xfrm>
            <a:off x="395280" y="836640"/>
            <a:ext cx="424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人工打捞水葫芦</a:t>
            </a: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74FA-2665-4BDD-A5AE-F4106C524E6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47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DDFE-3A0C-4793-B674-8BEAB0393536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48" name="Text Box 2"/>
          <p:cNvSpPr/>
          <p:nvPr/>
        </p:nvSpPr>
        <p:spPr>
          <a:xfrm>
            <a:off x="1116000" y="189000"/>
            <a:ext cx="6408720" cy="581400"/>
          </a:xfrm>
          <a:prstGeom prst="rect">
            <a:avLst/>
          </a:prstGeom>
          <a:solidFill>
            <a:srgbClr val="008080"/>
          </a:solidFill>
          <a:ln w="34920">
            <a:solidFill>
              <a:srgbClr val="ff99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（三）微生物代谢产物与环境污染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49" name="Text Box 3"/>
          <p:cNvSpPr/>
          <p:nvPr/>
        </p:nvSpPr>
        <p:spPr>
          <a:xfrm>
            <a:off x="900000" y="1197000"/>
            <a:ext cx="7062840" cy="149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硫化氢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低浓度：恶臭，污水处理厂污泥等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高浓度：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进入下水道的工人中毒和窒息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0" name="AutoShape 4"/>
          <p:cNvSpPr/>
          <p:nvPr/>
        </p:nvSpPr>
        <p:spPr>
          <a:xfrm>
            <a:off x="3276720" y="3357720"/>
            <a:ext cx="2232000" cy="1081080"/>
          </a:xfrm>
          <a:prstGeom prst="rightArrow">
            <a:avLst>
              <a:gd name="adj1" fmla="val 50000"/>
              <a:gd name="adj2" fmla="val 51615"/>
            </a:avLst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反硫化细菌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1" name="Oval 5"/>
          <p:cNvSpPr/>
          <p:nvPr/>
        </p:nvSpPr>
        <p:spPr>
          <a:xfrm>
            <a:off x="1476360" y="3500280"/>
            <a:ext cx="1873440" cy="71928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000099"/>
                </a:solidFill>
                <a:latin typeface="Times New Roman"/>
              </a:rPr>
              <a:t>2-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2" name="Oval 6"/>
          <p:cNvSpPr/>
          <p:nvPr/>
        </p:nvSpPr>
        <p:spPr>
          <a:xfrm>
            <a:off x="5435640" y="3429000"/>
            <a:ext cx="1801800" cy="71928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3" name="Oval 7"/>
          <p:cNvSpPr/>
          <p:nvPr/>
        </p:nvSpPr>
        <p:spPr>
          <a:xfrm>
            <a:off x="1403280" y="4365720"/>
            <a:ext cx="1873440" cy="71892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有机硫化物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4" name="Oval 8"/>
          <p:cNvSpPr/>
          <p:nvPr/>
        </p:nvSpPr>
        <p:spPr>
          <a:xfrm>
            <a:off x="5435640" y="4365720"/>
            <a:ext cx="1801800" cy="71892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5" name="AutoShape 9"/>
          <p:cNvSpPr/>
          <p:nvPr/>
        </p:nvSpPr>
        <p:spPr>
          <a:xfrm>
            <a:off x="3276720" y="4221000"/>
            <a:ext cx="2232000" cy="1081080"/>
          </a:xfrm>
          <a:prstGeom prst="rightArrow">
            <a:avLst>
              <a:gd name="adj1" fmla="val 50000"/>
              <a:gd name="adj2" fmla="val 51615"/>
            </a:avLst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异养微生物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BCF3-A6AD-4424-83B1-1CF2CBFEB54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7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5E18-4DE5-43FB-9D40-54C9568EA558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8" name="Text Box 2"/>
          <p:cNvSpPr/>
          <p:nvPr/>
        </p:nvSpPr>
        <p:spPr>
          <a:xfrm>
            <a:off x="755640" y="981000"/>
            <a:ext cx="7772400" cy="283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660033"/>
                </a:solidFill>
                <a:latin typeface="黑体"/>
                <a:ea typeface="黑体"/>
              </a:rPr>
              <a:t>酸性矿水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产生：化学氧化和耐酸细菌的联合作用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值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大量金属离子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周围农田、植被和水生生物鱼类等受到威胁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AD12-FB36-40ED-841A-DA1C7179E1D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60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281F-8F94-4587-8553-29662A0506A0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61" name="Text Box 2"/>
          <p:cNvSpPr/>
          <p:nvPr/>
        </p:nvSpPr>
        <p:spPr>
          <a:xfrm>
            <a:off x="457200" y="2819520"/>
            <a:ext cx="7705800" cy="162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SzPct val="1182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般情况下，环境中是不会积累亚硝酸的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182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腌制食品：含有大量的亚硝酸盐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182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亚硝酸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在人体内）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可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蛋白质代谢产物胺类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发生反应生成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亚硝胺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亚硝胺是一种致癌物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62" name="Oval 3"/>
          <p:cNvSpPr/>
          <p:nvPr/>
        </p:nvSpPr>
        <p:spPr>
          <a:xfrm>
            <a:off x="1187280" y="907920"/>
            <a:ext cx="1873440" cy="71928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NO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000099"/>
                </a:solidFill>
                <a:latin typeface="Times New Roman"/>
              </a:rPr>
              <a:t>-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63" name="AutoShape 4"/>
          <p:cNvSpPr/>
          <p:nvPr/>
        </p:nvSpPr>
        <p:spPr>
          <a:xfrm>
            <a:off x="2987640" y="836640"/>
            <a:ext cx="2521080" cy="1081080"/>
          </a:xfrm>
          <a:prstGeom prst="rightArrow">
            <a:avLst>
              <a:gd name="adj1" fmla="val 50000"/>
              <a:gd name="adj2" fmla="val 58300"/>
            </a:avLst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还原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64" name="Oval 5"/>
          <p:cNvSpPr/>
          <p:nvPr/>
        </p:nvSpPr>
        <p:spPr>
          <a:xfrm>
            <a:off x="5219640" y="981000"/>
            <a:ext cx="1873440" cy="71928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NO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000099"/>
                </a:solidFill>
                <a:latin typeface="Times New Roman"/>
              </a:rPr>
              <a:t>-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65" name="Oval 6"/>
          <p:cNvSpPr/>
          <p:nvPr/>
        </p:nvSpPr>
        <p:spPr>
          <a:xfrm>
            <a:off x="1116000" y="1844640"/>
            <a:ext cx="1873440" cy="71928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NH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66" name="AutoShape 7"/>
          <p:cNvSpPr/>
          <p:nvPr/>
        </p:nvSpPr>
        <p:spPr>
          <a:xfrm>
            <a:off x="2771640" y="1773360"/>
            <a:ext cx="3889440" cy="1081080"/>
          </a:xfrm>
          <a:prstGeom prst="rightArrow">
            <a:avLst>
              <a:gd name="adj1" fmla="val 50000"/>
              <a:gd name="adj2" fmla="val 89943"/>
            </a:avLst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化能自养硝酸化菌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67" name="Oval 8"/>
          <p:cNvSpPr/>
          <p:nvPr/>
        </p:nvSpPr>
        <p:spPr>
          <a:xfrm>
            <a:off x="6588000" y="1916280"/>
            <a:ext cx="1873440" cy="71892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NO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000099"/>
                </a:solidFill>
                <a:latin typeface="Times New Roman"/>
              </a:rPr>
              <a:t>-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68" name="AutoShape 9"/>
          <p:cNvSpPr/>
          <p:nvPr/>
        </p:nvSpPr>
        <p:spPr>
          <a:xfrm>
            <a:off x="2268360" y="260280"/>
            <a:ext cx="5661360" cy="647640"/>
          </a:xfrm>
          <a:prstGeom prst="cloudCallout">
            <a:avLst>
              <a:gd name="adj1" fmla="val -29129"/>
              <a:gd name="adj2" fmla="val 70097"/>
            </a:avLst>
          </a:prstGeom>
          <a:solidFill>
            <a:srgbClr val="ffff00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硝酸和亚硝酸盐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6D54-1E7D-45CF-9F57-E50BC2F63F1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83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4226-E2EB-4F63-99E4-B9D6016A6B73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979640" y="404640"/>
            <a:ext cx="4680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生物引起的环境污染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0" y="1357200"/>
            <a:ext cx="8893080" cy="39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生物污染</a:t>
            </a:r>
            <a:r>
              <a:rPr b="1" lang="zh-CN" sz="14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黑体"/>
              </a:rPr>
              <a:t>Biological Pollution</a:t>
            </a:r>
            <a:r>
              <a:rPr b="1" lang="zh-CN" sz="1400" spc="-1" strike="noStrike">
                <a:solidFill>
                  <a:srgbClr val="000099"/>
                </a:solidFill>
                <a:latin typeface="黑体"/>
                <a:ea typeface="黑体"/>
              </a:rPr>
              <a:t>）</a:t>
            </a:r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人和生物有害的微生物、寄生虫等病原体和变应原等污染水、气、土壤和食品，影响生物产量和质量，危害人类健康，这种污染称为生物污染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Arial"/>
              </a:rPr>
              <a:t>霉菌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悬铃木花粉 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由人体、动物、土壤和植物碎屑携带的细菌和病毒 如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ARs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尘螨以及猫、狗和鸟类身上脱落的毛发、皮屑。 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夏季严防室内生物污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黑体"/>
              </a:rPr>
              <a:t>2019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年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月，非洲猪瘟事件（莱芜）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2D0F-BC97-41DB-9D57-4E6EEE0B4EE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70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5492-9435-4AE9-8019-2A2EF5C0B078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71" name="Text Box 2"/>
          <p:cNvSpPr/>
          <p:nvPr/>
        </p:nvSpPr>
        <p:spPr>
          <a:xfrm>
            <a:off x="0" y="981000"/>
            <a:ext cx="9144000" cy="374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微生物毒素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微生物在其生长、代谢过程中所产生的毒素。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类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霉菌毒素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细菌毒素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72" name="AutoShape 3"/>
          <p:cNvSpPr/>
          <p:nvPr/>
        </p:nvSpPr>
        <p:spPr>
          <a:xfrm>
            <a:off x="2268360" y="0"/>
            <a:ext cx="5112000" cy="836640"/>
          </a:xfrm>
          <a:prstGeom prst="cloudCallout">
            <a:avLst>
              <a:gd name="adj1" fmla="val -34162"/>
              <a:gd name="adj2" fmla="val 121537"/>
            </a:avLst>
          </a:prstGeom>
          <a:solidFill>
            <a:srgbClr val="ffff00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微生物毒素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4FC7-46F2-4F50-9451-71D59C0B32A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74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234E-C525-4ACD-9995-B2494DF9E409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75" name="Text Box 2"/>
          <p:cNvSpPr/>
          <p:nvPr/>
        </p:nvSpPr>
        <p:spPr>
          <a:xfrm>
            <a:off x="395280" y="836640"/>
            <a:ext cx="8532720" cy="457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霉菌毒素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黄曲霉毒素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flaoxi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已确定结构黄曲霉毒素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，其中以黄曲霉毒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毒性最大，致癌性最强，霉变食品中很多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岛状毒素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leuteoskyri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毒素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烈性肝脏毒素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镰刀霉配质糖苷和枝孢菌酸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068D-B8C1-48CE-AB42-FDAC4EF9987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77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67EF-1CCE-4079-B0AB-2ED0DF229B3B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380880" y="914400"/>
            <a:ext cx="8305920" cy="374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细菌毒素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肉毒毒素：神经毒素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葡萄球菌肠毒素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放线菌毒素：致癌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藻类毒素：海洋中的甲藻类、淡水中的蓝细菌和盐湖中的金藻类。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E6EF-9C25-4259-ABBF-AC7572CA183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0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E8FF-C818-4509-B9FD-AE7F3AF6065F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1" name="AutoShape 2"/>
          <p:cNvSpPr/>
          <p:nvPr/>
        </p:nvSpPr>
        <p:spPr>
          <a:xfrm>
            <a:off x="395280" y="-171360"/>
            <a:ext cx="7162920" cy="761760"/>
          </a:xfrm>
          <a:prstGeom prst="cloudCallout">
            <a:avLst>
              <a:gd name="adj1" fmla="val -24532"/>
              <a:gd name="adj2" fmla="val 126041"/>
            </a:avLst>
          </a:prstGeom>
          <a:solidFill>
            <a:srgbClr val="cc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金属的生物转化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250920" y="765000"/>
            <a:ext cx="8620200" cy="39322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通过多种途径进入环境：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燃烧、农药、采矿、冶金等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心的元素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汞、砷、镉、铬、铅、锡、锑、铜、镍、钒。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低浓度的重金属对大多数生物有明显毒性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毒性与重金属形态有关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微生物具有适应金属化合物而生长并代谢这些物质的活性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代谢活动可改变其形态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A34B-C504-4370-A4DF-B54047ED87F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4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432B-BEF5-4A95-AB48-3CCC9CFC0774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5" name="Text Box 2"/>
          <p:cNvSpPr/>
          <p:nvPr/>
        </p:nvSpPr>
        <p:spPr>
          <a:xfrm>
            <a:off x="34920" y="836640"/>
            <a:ext cx="8964720" cy="37641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182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金属在一定浓度时对微生物有毒害作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182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低浓度的重金属对大多数微生物都有明显毒性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182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金属对微生物的毒性强度与其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浓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存在状态有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六价铬比三价铬毒得多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各种汞化物中，甲基汞的毒性最强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有机锡比无机锡毒，烷基锡比芳基锡毒，三烷基锡比四烷基锡更毒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BA2D-F6BB-40EE-8947-25BA1BC73C3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7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968D-893A-453D-8620-553A2B87FD8E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8" name="Text Box 2"/>
          <p:cNvSpPr/>
          <p:nvPr/>
        </p:nvSpPr>
        <p:spPr>
          <a:xfrm>
            <a:off x="0" y="304920"/>
            <a:ext cx="883908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思考题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金属对微生物的毒性强度与（ ）有关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浓度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其存在状态    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C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浓度和其存在状态 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价态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环境中微生物对金属的转化，主要是（   ）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9" name="Text Box 3"/>
          <p:cNvSpPr/>
          <p:nvPr/>
        </p:nvSpPr>
        <p:spPr>
          <a:xfrm>
            <a:off x="457200" y="51055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案：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.C  2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氧化还原和甲基化作用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52F5-A4C3-461B-B744-EB532D8B16A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91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61B3-7FCD-4C6D-91B3-E64F19E839FD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92" name="Text Box 2"/>
          <p:cNvSpPr/>
          <p:nvPr/>
        </p:nvSpPr>
        <p:spPr>
          <a:xfrm>
            <a:off x="395280" y="1484280"/>
            <a:ext cx="7416720" cy="159588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33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微生物的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代谢活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可改变环境中金属的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状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改变它们的性质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改变其生物效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33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三国演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诸葛亮四纵孟获后其部属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饮哑泉水中毒之谜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93" name="AutoShape 3"/>
          <p:cNvSpPr/>
          <p:nvPr/>
        </p:nvSpPr>
        <p:spPr>
          <a:xfrm>
            <a:off x="2362320" y="380880"/>
            <a:ext cx="6476760" cy="762120"/>
          </a:xfrm>
          <a:prstGeom prst="cloudCallout">
            <a:avLst>
              <a:gd name="adj1" fmla="val -65365"/>
              <a:gd name="adj2" fmla="val 70000"/>
            </a:avLst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金属的生物转化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94" name="AutoShape 4"/>
          <p:cNvSpPr/>
          <p:nvPr/>
        </p:nvSpPr>
        <p:spPr>
          <a:xfrm>
            <a:off x="250920" y="3933720"/>
            <a:ext cx="2133360" cy="1150920"/>
          </a:xfrm>
          <a:prstGeom prst="flowChartAlternateProcess">
            <a:avLst/>
          </a:prstGeom>
          <a:solidFill>
            <a:srgbClr val="ccffff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铜矿石中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不溶于水的铜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95" name="AutoShape 5"/>
          <p:cNvSpPr/>
          <p:nvPr/>
        </p:nvSpPr>
        <p:spPr>
          <a:xfrm>
            <a:off x="2556000" y="3860640"/>
            <a:ext cx="4876560" cy="1295640"/>
          </a:xfrm>
          <a:prstGeom prst="rightArrow">
            <a:avLst>
              <a:gd name="adj1" fmla="val 50000"/>
              <a:gd name="adj2" fmla="val 94096"/>
            </a:avLst>
          </a:prstGeom>
          <a:solidFill>
            <a:srgbClr val="ff9900"/>
          </a:solidFill>
          <a:ln w="76320">
            <a:solidFill>
              <a:srgbClr val="33cc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氧化亚铁硫杆菌等嗜酸菌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96" name="AutoShape 6"/>
          <p:cNvSpPr/>
          <p:nvPr/>
        </p:nvSpPr>
        <p:spPr>
          <a:xfrm>
            <a:off x="7164360" y="3860640"/>
            <a:ext cx="1368360" cy="1295640"/>
          </a:xfrm>
          <a:prstGeom prst="flowChartMultidocument">
            <a:avLst/>
          </a:prstGeom>
          <a:solidFill>
            <a:srgbClr val="ffff00"/>
          </a:solidFill>
          <a:ln w="4140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硫酸铜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9C92-D02E-4188-BC2B-229154E9659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98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71EC-50CB-4909-AFA6-9781DC12AFDA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99" name="Text Box 2"/>
          <p:cNvSpPr/>
          <p:nvPr/>
        </p:nvSpPr>
        <p:spPr>
          <a:xfrm>
            <a:off x="1835280" y="333360"/>
            <a:ext cx="446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00" name="Text Box 3"/>
          <p:cNvSpPr/>
          <p:nvPr/>
        </p:nvSpPr>
        <p:spPr>
          <a:xfrm>
            <a:off x="1187280" y="260280"/>
            <a:ext cx="604872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一）汞的氧化、还原和甲基化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684360" y="1916280"/>
            <a:ext cx="7777080" cy="272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环境中的无机汞可以下列三种形式存在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具有氧化作用的微生物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柠檬酸细菌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irobacter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、枯草芽孢杆菌、巨大芽孢杆菌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具有还原作用的微生物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铜绿假单胞菌、大肠埃希氏菌、变形杆菌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02" name="Oval 5"/>
          <p:cNvSpPr/>
          <p:nvPr/>
        </p:nvSpPr>
        <p:spPr>
          <a:xfrm>
            <a:off x="1908000" y="1052640"/>
            <a:ext cx="5185080" cy="609480"/>
          </a:xfrm>
          <a:prstGeom prst="ellipse">
            <a:avLst/>
          </a:prstGeom>
          <a:solidFill>
            <a:srgbClr val="ffff99"/>
          </a:solidFill>
          <a:ln w="73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汞的氧化和还原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5FA6-61C4-44B2-A4B9-5248065C026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04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D751-AB5A-4D18-8E97-6FB43044DA7E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2087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E149-B78D-40DD-8571-E5706962463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07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15C0-E437-4E8E-B6D2-581E779652ED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08" name="Text Box 2"/>
          <p:cNvSpPr/>
          <p:nvPr/>
        </p:nvSpPr>
        <p:spPr>
          <a:xfrm>
            <a:off x="179280" y="1628640"/>
            <a:ext cx="8785440" cy="2705040"/>
          </a:xfrm>
          <a:prstGeom prst="rect">
            <a:avLst/>
          </a:prstGeom>
          <a:solidFill>
            <a:srgbClr val="ffffff"/>
          </a:solidFill>
          <a:ln w="7632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用抗汞的假单胞菌株处理含总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0mg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工业废水，可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将废水中汞化物转化成元素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而回收利用，水的含汞量则大大减少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国科学院北京微生物研究所将假单胞菌的抗汞质粒转移给受体菌，使后者的抗汞水平提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倍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倍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09" name="AutoShape 3"/>
          <p:cNvSpPr/>
          <p:nvPr/>
        </p:nvSpPr>
        <p:spPr>
          <a:xfrm>
            <a:off x="1752480" y="228600"/>
            <a:ext cx="3962520" cy="838080"/>
          </a:xfrm>
          <a:prstGeom prst="cloudCallout">
            <a:avLst>
              <a:gd name="adj1" fmla="val 13583"/>
              <a:gd name="adj2" fmla="val 117800"/>
            </a:avLst>
          </a:prstGeom>
          <a:solidFill>
            <a:srgbClr val="ffff99"/>
          </a:solidFill>
          <a:ln w="475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学术研究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A48B-8C76-472D-81FD-A607EEAC7B7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87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5EAC-38DA-4CEB-88CA-523FF9F6AFFD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88" name="Text Box 2"/>
          <p:cNvSpPr/>
          <p:nvPr/>
        </p:nvSpPr>
        <p:spPr>
          <a:xfrm>
            <a:off x="684360" y="1125360"/>
            <a:ext cx="813564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buClr>
                <a:srgbClr val="ff00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物性污染对于食品安全的威胁很突出，数据表明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污染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危害我国食品安全的首要因素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buClr>
                <a:srgbClr val="ff00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于生物性污染具有</a:t>
            </a:r>
            <a:r>
              <a:rPr b="1" lang="zh-CN" sz="2800" spc="-1" strike="noStrike">
                <a:solidFill>
                  <a:srgbClr val="cc3300"/>
                </a:solidFill>
                <a:latin typeface="微软雅黑"/>
                <a:ea typeface="微软雅黑"/>
              </a:rPr>
              <a:t>不确定性和控制难度大的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点，容易造成局部地区的暴发和流行，因而备受食品安全监管部门的关注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9D52-5F65-4A1F-BF2B-7864C86A950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11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78C0-9ABA-46AF-A16C-541D621EF8F7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12" name="Text Box 2"/>
          <p:cNvSpPr/>
          <p:nvPr/>
        </p:nvSpPr>
        <p:spPr>
          <a:xfrm>
            <a:off x="0" y="1125360"/>
            <a:ext cx="9144000" cy="22521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吉林医学院从第二松花江表层底泥中分离、筛选出三株抗汞假单胞菌，经驯化，去除氯化汞的效率相当高，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gC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浓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mg/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mg/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去除率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％，浓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mg/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mg/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去除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9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％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有的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微生物能将金属浓集于自身细胞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这对于减轻环境污染，维持生态平衡有重要意义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2E0E-5399-4349-A357-0F12EC6DD44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14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2C0E-A28D-441A-BF29-F8A75D9D045C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15" name="Text Box 2"/>
          <p:cNvSpPr/>
          <p:nvPr/>
        </p:nvSpPr>
        <p:spPr>
          <a:xfrm>
            <a:off x="539640" y="836640"/>
            <a:ext cx="7777440" cy="402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汞的甲基化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8000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引起水俣病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8000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使汞甲基化的微生物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甲烷菌、匙形梭菌、荧光假单胞菌等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8000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甲基汞溶于水，为鱼贝吸收而浓缩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8000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甲基汞逸出水体，进入大气，污染扩大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BE6C-83AF-4E2A-8DED-3501D137472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17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10EA-7805-4E6C-9A3F-CBC3175876C7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18" name="Text Box 2"/>
          <p:cNvSpPr/>
          <p:nvPr/>
        </p:nvSpPr>
        <p:spPr>
          <a:xfrm>
            <a:off x="755640" y="1989000"/>
            <a:ext cx="7238880" cy="20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生物能进行甲基汞降解作用。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能降解甲基汞的微生物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需氧菌、兼性厌氧菌和专性厌氧菌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C6DF-D3BE-4347-9750-8E86E95FE5F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20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5560-6FF5-4357-ABF6-21FCA22D69E7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21" name="Text Box 2"/>
          <p:cNvSpPr/>
          <p:nvPr/>
        </p:nvSpPr>
        <p:spPr>
          <a:xfrm>
            <a:off x="900000" y="189000"/>
            <a:ext cx="604836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4584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二）砷的氧化、还原和甲基化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826920" y="2133720"/>
            <a:ext cx="7344000" cy="165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砷为类金属，微量元素。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砷的有机、无机化合物有毒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3+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毒性大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5+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砒霜为三价砷化物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1DC7-53C5-4A20-88C6-CDBBC162BEC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24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C210-BCB4-4F31-A743-1E58FD863868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25" name="AutoShape 4"/>
          <p:cNvSpPr/>
          <p:nvPr/>
        </p:nvSpPr>
        <p:spPr>
          <a:xfrm>
            <a:off x="1763640" y="0"/>
            <a:ext cx="4537080" cy="1009800"/>
          </a:xfrm>
          <a:prstGeom prst="cloudCallout">
            <a:avLst>
              <a:gd name="adj1" fmla="val 65537"/>
              <a:gd name="adj2" fmla="val 70439"/>
            </a:avLst>
          </a:prstGeom>
          <a:solidFill>
            <a:srgbClr val="cc99ff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砷的氧化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526" name="Picture 5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345440" cy="558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56B6-6C50-4CB2-98F2-20FDA4E7691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28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DFE9-C86A-45C0-8360-D3B61F542B10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grpSp>
        <p:nvGrpSpPr>
          <p:cNvPr id="529" name="Group 3"/>
          <p:cNvGrpSpPr/>
          <p:nvPr/>
        </p:nvGrpSpPr>
        <p:grpSpPr>
          <a:xfrm>
            <a:off x="0" y="2060640"/>
            <a:ext cx="7235640" cy="863640"/>
            <a:chOff x="0" y="2060640"/>
            <a:chExt cx="7235640" cy="863640"/>
          </a:xfrm>
        </p:grpSpPr>
        <p:sp>
          <p:nvSpPr>
            <p:cNvPr id="530" name="Oval 4"/>
            <p:cNvSpPr/>
            <p:nvPr/>
          </p:nvSpPr>
          <p:spPr>
            <a:xfrm>
              <a:off x="0" y="2060640"/>
              <a:ext cx="2045160" cy="790560"/>
            </a:xfrm>
            <a:prstGeom prst="ellipse">
              <a:avLst/>
            </a:prstGeom>
            <a:solidFill>
              <a:srgbClr val="ffff99"/>
            </a:solidFill>
            <a:ln w="763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亚砷酸盐</a:t>
              </a:r>
              <a:endParaRPr b="1" lang="en-US" sz="28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531" name="AutoShape 5"/>
            <p:cNvSpPr/>
            <p:nvPr/>
          </p:nvSpPr>
          <p:spPr>
            <a:xfrm>
              <a:off x="2046600" y="2132280"/>
              <a:ext cx="5189040" cy="792000"/>
            </a:xfrm>
            <a:prstGeom prst="rightArrow">
              <a:avLst>
                <a:gd name="adj1" fmla="val 50000"/>
                <a:gd name="adj2" fmla="val 163795"/>
              </a:avLst>
            </a:prstGeom>
            <a:solidFill>
              <a:srgbClr val="00ffff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  <a:ea typeface="黑体"/>
                </a:rPr>
                <a:t>假单胞菌、黄单胞菌、节杆菌</a:t>
              </a:r>
              <a:endParaRPr b="1" lang="en-US" sz="28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</p:grpSp>
      <p:sp>
        <p:nvSpPr>
          <p:cNvPr id="532" name="Oval 6"/>
          <p:cNvSpPr/>
          <p:nvPr/>
        </p:nvSpPr>
        <p:spPr>
          <a:xfrm>
            <a:off x="7128000" y="2133720"/>
            <a:ext cx="1836720" cy="79056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砷酸盐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107D-7CD8-4F02-A3BD-7668535A369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34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393E-26F2-4D91-AB15-DAF54CA43152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35" name="AutoShape 2"/>
          <p:cNvSpPr/>
          <p:nvPr/>
        </p:nvSpPr>
        <p:spPr>
          <a:xfrm>
            <a:off x="1187280" y="1628640"/>
            <a:ext cx="676944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砷化物加到颜料中使色彩鲜艳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36" name="Oval 3"/>
          <p:cNvSpPr/>
          <p:nvPr/>
        </p:nvSpPr>
        <p:spPr>
          <a:xfrm>
            <a:off x="684360" y="2924280"/>
            <a:ext cx="2016000" cy="79056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砷化物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37" name="AutoShape 4"/>
          <p:cNvSpPr/>
          <p:nvPr/>
        </p:nvSpPr>
        <p:spPr>
          <a:xfrm>
            <a:off x="2916360" y="2924280"/>
            <a:ext cx="2104920" cy="792000"/>
          </a:xfrm>
          <a:prstGeom prst="rightArrow">
            <a:avLst>
              <a:gd name="adj1" fmla="val 50000"/>
              <a:gd name="adj2" fmla="val 66443"/>
            </a:avLst>
          </a:prstGeom>
          <a:solidFill>
            <a:srgbClr val="00ffff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霉菌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38" name="Oval 5"/>
          <p:cNvSpPr/>
          <p:nvPr/>
        </p:nvSpPr>
        <p:spPr>
          <a:xfrm>
            <a:off x="5076720" y="2852640"/>
            <a:ext cx="2867040" cy="79056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三甲基砷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39" name="AutoShape 6"/>
          <p:cNvSpPr/>
          <p:nvPr/>
        </p:nvSpPr>
        <p:spPr>
          <a:xfrm>
            <a:off x="1403280" y="404640"/>
            <a:ext cx="5184720" cy="863640"/>
          </a:xfrm>
          <a:prstGeom prst="cloudCallout">
            <a:avLst>
              <a:gd name="adj1" fmla="val 19995"/>
              <a:gd name="adj2" fmla="val 86763"/>
            </a:avLst>
          </a:prstGeom>
          <a:solidFill>
            <a:srgbClr val="99cc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  <a:ea typeface="黑体"/>
              </a:rPr>
              <a:t>2.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黑体"/>
              </a:rPr>
              <a:t>砷的甲基化</a:t>
            </a: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0" name="AutoShape 7"/>
          <p:cNvSpPr/>
          <p:nvPr/>
        </p:nvSpPr>
        <p:spPr>
          <a:xfrm>
            <a:off x="2411280" y="4149720"/>
            <a:ext cx="5545440" cy="1295280"/>
          </a:xfrm>
          <a:prstGeom prst="cloudCallout">
            <a:avLst>
              <a:gd name="adj1" fmla="val 17189"/>
              <a:gd name="adj2" fmla="val -84069"/>
            </a:avLst>
          </a:prstGeom>
          <a:solidFill>
            <a:srgbClr val="cc99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大蒜气味的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剧毒物质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FB35-F60F-4578-B65E-9A53F8F4C06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2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C0ED-36E0-48A9-9B1A-871AF6D52EAF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3" name="Text Box 2"/>
          <p:cNvSpPr/>
          <p:nvPr/>
        </p:nvSpPr>
        <p:spPr>
          <a:xfrm>
            <a:off x="990720" y="762120"/>
            <a:ext cx="7543800" cy="642600"/>
          </a:xfrm>
          <a:prstGeom prst="rect">
            <a:avLst/>
          </a:prstGeom>
          <a:solidFill>
            <a:srgbClr val="ffffff"/>
          </a:solidFill>
          <a:ln w="3492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黑体"/>
                <a:ea typeface="黑体"/>
              </a:rPr>
              <a:t>（三）硒的氧化、还原和甲基化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4" name="AutoShape 3"/>
          <p:cNvSpPr/>
          <p:nvPr/>
        </p:nvSpPr>
        <p:spPr>
          <a:xfrm>
            <a:off x="2411280" y="1484280"/>
            <a:ext cx="2952720" cy="792360"/>
          </a:xfrm>
          <a:prstGeom prst="cloudCallout">
            <a:avLst>
              <a:gd name="adj1" fmla="val -20537"/>
              <a:gd name="adj2" fmla="val 104310"/>
            </a:avLst>
          </a:prstGeom>
          <a:solidFill>
            <a:srgbClr val="31b6fd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富硒大米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900000" y="278136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需要量与中毒水平之间的安全幅度很小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6" name="Oval 5"/>
          <p:cNvSpPr/>
          <p:nvPr/>
        </p:nvSpPr>
        <p:spPr>
          <a:xfrm>
            <a:off x="611280" y="3429000"/>
            <a:ext cx="2016000" cy="79056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素硒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7" name="AutoShape 6"/>
          <p:cNvSpPr/>
          <p:nvPr/>
        </p:nvSpPr>
        <p:spPr>
          <a:xfrm>
            <a:off x="2627280" y="3429000"/>
            <a:ext cx="1871640" cy="792000"/>
          </a:xfrm>
          <a:prstGeom prst="rightArrow">
            <a:avLst>
              <a:gd name="adj1" fmla="val 50000"/>
              <a:gd name="adj2" fmla="val 59080"/>
            </a:avLst>
          </a:prstGeom>
          <a:solidFill>
            <a:srgbClr val="00ffff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紫色硫细菌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8" name="Oval 7"/>
          <p:cNvSpPr/>
          <p:nvPr/>
        </p:nvSpPr>
        <p:spPr>
          <a:xfrm>
            <a:off x="4572000" y="3429000"/>
            <a:ext cx="2305080" cy="79056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硒酸盐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8AE8-F4BB-4D1D-A009-6EA14FA4C5D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50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EA6B-2C93-450B-B785-68C58B039B93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51" name="Text Box 2"/>
          <p:cNvSpPr/>
          <p:nvPr/>
        </p:nvSpPr>
        <p:spPr>
          <a:xfrm>
            <a:off x="1143000" y="1143000"/>
            <a:ext cx="6934320" cy="2837160"/>
          </a:xfrm>
          <a:prstGeom prst="rect">
            <a:avLst/>
          </a:prstGeom>
          <a:solidFill>
            <a:srgbClr val="ffffff"/>
          </a:solidFill>
          <a:ln w="3492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四）其他重金属的生物转化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铅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锡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镉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锑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60B6-8370-4105-BD15-211B9380CB1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53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58EE-CF66-4244-87E3-8EB8548B546B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54" name="Text Box 2"/>
          <p:cNvSpPr/>
          <p:nvPr/>
        </p:nvSpPr>
        <p:spPr>
          <a:xfrm>
            <a:off x="0" y="907920"/>
            <a:ext cx="9144000" cy="3841200"/>
          </a:xfrm>
          <a:prstGeom prst="rect">
            <a:avLst/>
          </a:prstGeom>
          <a:solidFill>
            <a:srgbClr val="ffffff"/>
          </a:solidFill>
          <a:ln w="3492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五）重金属生物转化的环境效应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对有毒金属的解毒方式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通过分泌或呼吸作用排出形成的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有机金属化合物</a:t>
            </a:r>
            <a:r>
              <a:rPr b="1" lang="zh-CN" sz="2800" spc="-1" strike="noStrike">
                <a:solidFill>
                  <a:srgbClr val="4584d3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被排出的金属化合物，可能对高等生物具有更大的危害性</a:t>
            </a:r>
            <a:r>
              <a:rPr b="1" lang="zh-CN" sz="2800" spc="-1" strike="noStrike">
                <a:solidFill>
                  <a:srgbClr val="993366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可把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化合态金属还原成单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将金属从生物接触的环境中清除。例如汞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6762-FEE5-4CBD-A2DA-89435FC956F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90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08ED-179D-4587-BCD0-BFF702DB06F6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763640" y="189000"/>
            <a:ext cx="4680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环境中的病原微生物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2340000" y="1125360"/>
            <a:ext cx="3816360" cy="520560"/>
          </a:xfrm>
          <a:prstGeom prst="rect">
            <a:avLst/>
          </a:prstGeom>
          <a:solidFill>
            <a:srgbClr val="ccffff"/>
          </a:solidFill>
          <a:ln w="7632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空气中的微生物污染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324000" y="1844640"/>
            <a:ext cx="8569080" cy="19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993366"/>
              </a:buClr>
              <a:buSzPct val="12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污水处理与污水灌溉可引起空气污染。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9933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污灌前进行污水消毒，以减少含菌气溶胶的传播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D928-BA43-42D2-960E-031D3632DE4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56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EA13-BA2E-4E28-BC21-0DF0666B28E4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57" name="AutoShape 2"/>
          <p:cNvSpPr/>
          <p:nvPr/>
        </p:nvSpPr>
        <p:spPr>
          <a:xfrm>
            <a:off x="2916360" y="0"/>
            <a:ext cx="2554200" cy="907920"/>
          </a:xfrm>
          <a:custGeom>
            <a:avLst/>
            <a:gdLst>
              <a:gd name="textAreaLeft" fmla="*/ 447480 w 2554200"/>
              <a:gd name="textAreaRight" fmla="*/ 2106720 w 2554200"/>
              <a:gd name="textAreaTop" fmla="*/ 159120 h 907920"/>
              <a:gd name="textAreaBottom" fmla="*/ 748800 h 90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784" y="3784"/>
                </a:lnTo>
                <a:lnTo>
                  <a:pt x="10800" y="0"/>
                </a:lnTo>
                <a:lnTo>
                  <a:pt x="17816" y="3784"/>
                </a:lnTo>
                <a:lnTo>
                  <a:pt x="21600" y="10800"/>
                </a:lnTo>
                <a:lnTo>
                  <a:pt x="17816" y="17816"/>
                </a:lnTo>
                <a:lnTo>
                  <a:pt x="10800" y="21600"/>
                </a:lnTo>
                <a:lnTo>
                  <a:pt x="3784" y="17816"/>
                </a:lnTo>
                <a:lnTo>
                  <a:pt x="0" y="10800"/>
                </a:lnTo>
                <a:close/>
              </a:path>
            </a:pathLst>
          </a:custGeom>
          <a:solidFill>
            <a:srgbClr val="ccffcc"/>
          </a:solidFill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补充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826920" y="907920"/>
            <a:ext cx="83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六节 影响污染物在生态系统中行为的因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59" name="Oval 4"/>
          <p:cNvSpPr/>
          <p:nvPr/>
        </p:nvSpPr>
        <p:spPr>
          <a:xfrm>
            <a:off x="990720" y="1905120"/>
            <a:ext cx="3220920" cy="720720"/>
          </a:xfrm>
          <a:prstGeom prst="ellipse">
            <a:avLst/>
          </a:prstGeom>
          <a:solidFill>
            <a:srgbClr val="ffff99"/>
          </a:solidFill>
          <a:ln w="85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生物因素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60" name="Oval 5"/>
          <p:cNvSpPr/>
          <p:nvPr/>
        </p:nvSpPr>
        <p:spPr>
          <a:xfrm>
            <a:off x="1692360" y="2708280"/>
            <a:ext cx="3646440" cy="720720"/>
          </a:xfrm>
          <a:prstGeom prst="ellipse">
            <a:avLst/>
          </a:prstGeom>
          <a:solidFill>
            <a:srgbClr val="ccffff"/>
          </a:solidFill>
          <a:ln w="475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污染物因素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61" name="Oval 6"/>
          <p:cNvSpPr/>
          <p:nvPr/>
        </p:nvSpPr>
        <p:spPr>
          <a:xfrm>
            <a:off x="2340000" y="3573360"/>
            <a:ext cx="2879640" cy="720720"/>
          </a:xfrm>
          <a:prstGeom prst="ellipse">
            <a:avLst/>
          </a:prstGeom>
          <a:solidFill>
            <a:srgbClr val="ffffff"/>
          </a:solidFill>
          <a:ln w="982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环境因素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1CE7-79BC-4321-A0C0-05A17681C78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63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2A16-73C4-47A2-9EE9-77B55FB8AA2C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64" name="AutoShape 2"/>
          <p:cNvSpPr/>
          <p:nvPr/>
        </p:nvSpPr>
        <p:spPr>
          <a:xfrm>
            <a:off x="3276720" y="1905120"/>
            <a:ext cx="1655640" cy="2531880"/>
          </a:xfrm>
          <a:custGeom>
            <a:avLst/>
            <a:gdLst>
              <a:gd name="textAreaLeft" fmla="*/ 1057680 w 1655640"/>
              <a:gd name="textAreaRight" fmla="*/ 1656000 w 1655640"/>
              <a:gd name="textAreaTop" fmla="*/ 65880 h 2531880"/>
              <a:gd name="textAreaBottom" fmla="*/ 2466000 h 253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65" name="Oval 3"/>
          <p:cNvSpPr/>
          <p:nvPr/>
        </p:nvSpPr>
        <p:spPr>
          <a:xfrm>
            <a:off x="4643280" y="1484280"/>
            <a:ext cx="3240360" cy="72072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生物的种类差异性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66" name="Oval 4"/>
          <p:cNvSpPr/>
          <p:nvPr/>
        </p:nvSpPr>
        <p:spPr>
          <a:xfrm>
            <a:off x="4500720" y="2349360"/>
            <a:ext cx="3240000" cy="72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组织和器官差异性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67" name="Oval 5"/>
          <p:cNvSpPr/>
          <p:nvPr/>
        </p:nvSpPr>
        <p:spPr>
          <a:xfrm>
            <a:off x="4500720" y="3284640"/>
            <a:ext cx="3456000" cy="720720"/>
          </a:xfrm>
          <a:prstGeom prst="ellipse">
            <a:avLst/>
          </a:prstGeom>
          <a:solidFill>
            <a:srgbClr val="c0c0c0"/>
          </a:solidFill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育期和年龄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68" name="Oval 6"/>
          <p:cNvSpPr/>
          <p:nvPr/>
        </p:nvSpPr>
        <p:spPr>
          <a:xfrm>
            <a:off x="5435640" y="4149720"/>
            <a:ext cx="1728720" cy="720720"/>
          </a:xfrm>
          <a:prstGeom prst="ellipse">
            <a:avLst/>
          </a:prstGeom>
          <a:solidFill>
            <a:srgbClr val="cc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性别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69" name="Oval 7"/>
          <p:cNvSpPr/>
          <p:nvPr/>
        </p:nvSpPr>
        <p:spPr>
          <a:xfrm>
            <a:off x="539640" y="2666880"/>
            <a:ext cx="3025800" cy="720720"/>
          </a:xfrm>
          <a:prstGeom prst="ellipse">
            <a:avLst/>
          </a:prstGeom>
          <a:solidFill>
            <a:srgbClr val="ffff99"/>
          </a:solidFill>
          <a:ln w="85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生物因素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4758-AB85-4F42-AF21-FBD366F6A88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71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02AD-CF30-4694-A09A-BA6B34F1235A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72" name="AutoShape 2"/>
          <p:cNvSpPr/>
          <p:nvPr/>
        </p:nvSpPr>
        <p:spPr>
          <a:xfrm>
            <a:off x="3276720" y="1916280"/>
            <a:ext cx="1441440" cy="2519280"/>
          </a:xfrm>
          <a:custGeom>
            <a:avLst/>
            <a:gdLst>
              <a:gd name="textAreaLeft" fmla="*/ 920880 w 1441440"/>
              <a:gd name="textAreaRight" fmla="*/ 1441800 w 144144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73" name="Oval 3"/>
          <p:cNvSpPr/>
          <p:nvPr/>
        </p:nvSpPr>
        <p:spPr>
          <a:xfrm>
            <a:off x="4643280" y="1484280"/>
            <a:ext cx="3240360" cy="72072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种类和理化性质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74" name="Oval 4"/>
          <p:cNvSpPr/>
          <p:nvPr/>
        </p:nvSpPr>
        <p:spPr>
          <a:xfrm>
            <a:off x="4500720" y="2349360"/>
            <a:ext cx="3240000" cy="72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污染物的存在形态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75" name="Oval 5"/>
          <p:cNvSpPr/>
          <p:nvPr/>
        </p:nvSpPr>
        <p:spPr>
          <a:xfrm>
            <a:off x="4500720" y="3284640"/>
            <a:ext cx="3240000" cy="720720"/>
          </a:xfrm>
          <a:prstGeom prst="ellipse">
            <a:avLst/>
          </a:prstGeom>
          <a:solidFill>
            <a:srgbClr val="c0c0c0"/>
          </a:solidFill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浓度和暴露时间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76" name="Oval 6"/>
          <p:cNvSpPr/>
          <p:nvPr/>
        </p:nvSpPr>
        <p:spPr>
          <a:xfrm>
            <a:off x="4788000" y="4076640"/>
            <a:ext cx="2879640" cy="720720"/>
          </a:xfrm>
          <a:prstGeom prst="ellipse">
            <a:avLst/>
          </a:prstGeom>
          <a:solidFill>
            <a:srgbClr val="cc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污染物的相互作用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77" name="AutoShape 7"/>
          <p:cNvSpPr/>
          <p:nvPr/>
        </p:nvSpPr>
        <p:spPr>
          <a:xfrm>
            <a:off x="3059280" y="4941720"/>
            <a:ext cx="3960720" cy="719280"/>
          </a:xfrm>
          <a:prstGeom prst="wedgeRoundRectCallout">
            <a:avLst>
              <a:gd name="adj1" fmla="val 25111"/>
              <a:gd name="adj2" fmla="val -90398"/>
              <a:gd name="adj3" fmla="val 16667"/>
            </a:avLst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协同、相加、独立和拮抗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78" name="Oval 8"/>
          <p:cNvSpPr/>
          <p:nvPr/>
        </p:nvSpPr>
        <p:spPr>
          <a:xfrm>
            <a:off x="228600" y="2743200"/>
            <a:ext cx="2879640" cy="720720"/>
          </a:xfrm>
          <a:prstGeom prst="ellipse">
            <a:avLst/>
          </a:prstGeom>
          <a:solidFill>
            <a:srgbClr val="ccffff"/>
          </a:solidFill>
          <a:ln w="475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污染物因素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8B45-D411-450D-8223-01D8E434912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80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5C13-08E4-416B-A68F-825C6A028233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81" name="AutoShape 2"/>
          <p:cNvSpPr/>
          <p:nvPr/>
        </p:nvSpPr>
        <p:spPr>
          <a:xfrm>
            <a:off x="3276720" y="1916280"/>
            <a:ext cx="1441440" cy="2519280"/>
          </a:xfrm>
          <a:custGeom>
            <a:avLst/>
            <a:gdLst>
              <a:gd name="textAreaLeft" fmla="*/ 920880 w 1441440"/>
              <a:gd name="textAreaRight" fmla="*/ 1441800 w 144144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82" name="Oval 3"/>
          <p:cNvSpPr/>
          <p:nvPr/>
        </p:nvSpPr>
        <p:spPr>
          <a:xfrm>
            <a:off x="4643280" y="1628640"/>
            <a:ext cx="3600720" cy="72072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温度、湿度和光照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83" name="Oval 4"/>
          <p:cNvSpPr/>
          <p:nvPr/>
        </p:nvSpPr>
        <p:spPr>
          <a:xfrm>
            <a:off x="4500720" y="2781360"/>
            <a:ext cx="3240000" cy="72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环境介质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84" name="Oval 5"/>
          <p:cNvSpPr/>
          <p:nvPr/>
        </p:nvSpPr>
        <p:spPr>
          <a:xfrm>
            <a:off x="4427640" y="3933720"/>
            <a:ext cx="3240000" cy="720720"/>
          </a:xfrm>
          <a:prstGeom prst="ellipse">
            <a:avLst/>
          </a:prstGeom>
          <a:solidFill>
            <a:srgbClr val="c0c0c0"/>
          </a:solidFill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根际环境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85" name="Oval 6"/>
          <p:cNvSpPr/>
          <p:nvPr/>
        </p:nvSpPr>
        <p:spPr>
          <a:xfrm>
            <a:off x="380880" y="2819520"/>
            <a:ext cx="2880000" cy="720720"/>
          </a:xfrm>
          <a:prstGeom prst="ellipse">
            <a:avLst/>
          </a:prstGeom>
          <a:solidFill>
            <a:srgbClr val="ffffff"/>
          </a:solidFill>
          <a:ln w="982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环境因素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6710-ED7A-464D-95C7-B6D0C012ED5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87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9418-DFD7-439B-8F13-D2C200D2611A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88" name="Text Box 2"/>
          <p:cNvSpPr/>
          <p:nvPr/>
        </p:nvSpPr>
        <p:spPr>
          <a:xfrm>
            <a:off x="0" y="836640"/>
            <a:ext cx="6302520" cy="4492440"/>
          </a:xfrm>
          <a:prstGeom prst="rect">
            <a:avLst/>
          </a:prstGeom>
          <a:noFill/>
          <a:ln w="763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buClr>
                <a:srgbClr val="00cc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际环境对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植物吸收和积累污染物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重要的影响，主要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因素有关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植物生长过程中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根系产生的分泌物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根际微环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改变；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根际环境中大量的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微生物生理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根际微环境的改变；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同植物根形成共生关系的菌根微生物也影响了吸收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89" name="AutoShape 3"/>
          <p:cNvSpPr/>
          <p:nvPr/>
        </p:nvSpPr>
        <p:spPr>
          <a:xfrm>
            <a:off x="6858000" y="1916280"/>
            <a:ext cx="2286000" cy="2514600"/>
          </a:xfrm>
          <a:prstGeom prst="wedgeRoundRectCallout">
            <a:avLst>
              <a:gd name="adj1" fmla="val -99444"/>
              <a:gd name="adj2" fmla="val -17361"/>
              <a:gd name="adj3" fmla="val 16667"/>
            </a:avLst>
          </a:prstGeom>
          <a:solidFill>
            <a:srgbClr val="ccffff"/>
          </a:solidFill>
          <a:ln w="85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根分泌物中大量的有机酸和酚类等物质可与重金属形成络合物，有利植物吸收。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43F4-9B53-40B1-AD76-A2573608A06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91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8BFC-41D2-407A-88C4-D24C8E46CFEA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92" name="AutoShape 3"/>
          <p:cNvSpPr/>
          <p:nvPr/>
        </p:nvSpPr>
        <p:spPr>
          <a:xfrm>
            <a:off x="6642000" y="1628640"/>
            <a:ext cx="2502000" cy="3649680"/>
          </a:xfrm>
          <a:prstGeom prst="wedgeRoundRectCallout">
            <a:avLst>
              <a:gd name="adj1" fmla="val -83504"/>
              <a:gd name="adj2" fmla="val 14638"/>
              <a:gd name="adj3" fmla="val 16667"/>
            </a:avLst>
          </a:prstGeom>
          <a:noFill/>
          <a:ln w="85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由于微生物的代谢活性，产酸导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下降，产生重金属螯合物，导致重金属溶解，被微生物细胞吸附或吸收。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0" y="836640"/>
            <a:ext cx="6302520" cy="4492440"/>
          </a:xfrm>
          <a:prstGeom prst="rect">
            <a:avLst/>
          </a:prstGeom>
          <a:noFill/>
          <a:ln w="763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buClr>
                <a:srgbClr val="00cc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际环境对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植物吸收和积累污染物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重要的影响，主要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因素有关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植物生长过程中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根系产生的分泌物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根际微环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改变；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根际环境中大量的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微生物生理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根际微环境的改变；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同植物根形成共生关系的菌根微生物也影响了吸收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C592-7955-401E-A083-259E33F0FF4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95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E54E-B00C-47BF-B493-23C5D8677970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96" name="AutoShape 3"/>
          <p:cNvSpPr/>
          <p:nvPr/>
        </p:nvSpPr>
        <p:spPr>
          <a:xfrm>
            <a:off x="6659640" y="1197000"/>
            <a:ext cx="2286000" cy="3505320"/>
          </a:xfrm>
          <a:prstGeom prst="wedgeRoundRectCallout">
            <a:avLst>
              <a:gd name="adj1" fmla="val -83263"/>
              <a:gd name="adj2" fmla="val 61365"/>
              <a:gd name="adj3" fmla="val 16667"/>
            </a:avLst>
          </a:prstGeom>
          <a:noFill/>
          <a:ln w="85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使用污泥的土壤中，菌根促进植物的生长，根瘤数和重量，提高植物体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的含量。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0" y="836640"/>
            <a:ext cx="6302520" cy="4492440"/>
          </a:xfrm>
          <a:prstGeom prst="rect">
            <a:avLst/>
          </a:prstGeom>
          <a:noFill/>
          <a:ln w="763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buClr>
                <a:srgbClr val="00cc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际环境对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植物吸收和积累污染物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重要的影响，主要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因素有关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植物生长过程中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根系产生的分泌物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根际微环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改变；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根际环境中大量的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微生物生理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根际微环境的改变；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同植物根形成共生关系的菌根微生物也影响了吸收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日期占位符 1"/>
          <p:cNvSpPr/>
          <p:nvPr/>
        </p:nvSpPr>
        <p:spPr>
          <a:xfrm>
            <a:off x="5219640" y="62373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CAEE-9FCB-4289-B22C-0593C4B742D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99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A4AF-1B2A-4406-BFA7-BE7A5B029928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00" name="Text Box 2"/>
          <p:cNvSpPr/>
          <p:nvPr/>
        </p:nvSpPr>
        <p:spPr>
          <a:xfrm>
            <a:off x="250920" y="692280"/>
            <a:ext cx="864216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解释下列基本概念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优先控制污染物、污染物迁移、污染物转化、超积累植物、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POPs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污染物在环境中的迁移方式和转化途径。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什么是生物转运？污染物透过细胞膜的方式。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什么是污染物在体内的生物转化？生物转化过程和主要反应。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5.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什么是生物浓缩、生物积累、生物放大和浓缩系数。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6.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阐述微生物对金属汞、砷的生物转化。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、影响污染物在生态系统中的行为的主要因素有哪些方面？举例说明这些因素的影响方式和影响程度。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、超量积累植物具有什么特点？研究超量积累植物有什么意义？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3B37-4A50-4A21-8D7A-18B2B0F3683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02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743B-A050-4146-BFC0-CA945A229D82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0" y="620640"/>
            <a:ext cx="8893080" cy="415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次作业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的环境问题？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国在本学科中存在的主要优先领域有哪些方面？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国外环境生物学重要期刊？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什么是生物转运？污染物透过细胞膜的方式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什么是污染物在体内的生物转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请简述生物转化过程和主要反应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概念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生物浓缩、生物积累、生物放大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优先控制污染物、超积累植物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OPs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8E00-4B67-4966-A3A5-E05D54B5301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95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1333-4121-4486-A594-4419FCE8DC8D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2340000" y="260280"/>
            <a:ext cx="3816360" cy="5205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水体中的微生物污染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2971800" y="1143000"/>
            <a:ext cx="2209680" cy="52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水中病原体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250920" y="1844640"/>
            <a:ext cx="8353440" cy="393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沙门氏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almonella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沙门氏菌污染的水源被饮用可能导致人体肠胃或伤寒暴发流行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菌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志贺氏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higella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菌，引起痢疾流行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霍乱弧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ibrio cholerae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引起霍乱流行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道病毒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nterovirus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甲型肝炎病毒、呼肠锅病毒等都引起水体污染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4A98-30B5-45FE-8F5F-6BF8CE7358A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00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C91A-D038-49DF-9348-694256181072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2411280" y="260280"/>
            <a:ext cx="3816360" cy="5205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土壤的微生物污染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0" y="981000"/>
            <a:ext cx="8964720" cy="329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土壤是微生物居住场所，造成土壤微生物污染主要方式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用未经彻底无害处理的人、畜粪便施肥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用未经处理的生活污水、医院污水和含有病原体的工业废水进行农田灌溉和利用其污泥施肥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畜尸体处理不当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黑体"/>
              </a:rPr>
              <a:t>2005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年在四川暴发的人感染猪链球菌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5FA9-A33B-49B2-BF8F-E5A1F728188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04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CE5B-6ACC-40C8-8C15-D5728B2C5F96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05" name="Text Box 2"/>
          <p:cNvSpPr/>
          <p:nvPr/>
        </p:nvSpPr>
        <p:spPr>
          <a:xfrm>
            <a:off x="2195640" y="189000"/>
            <a:ext cx="504036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4584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 水体的富营养化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468360" y="1268280"/>
            <a:ext cx="7491240" cy="16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水体的富营养化作用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Eutrophic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量的氮、磷等营养元素物质进入水体，使水中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藻类等浮游生物旺盛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增殖，从而破坏水体的生态平衡的现象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7" name="Picture 4" descr="7e3abea14a2ce781471064e6"/>
          <p:cNvPicPr/>
          <p:nvPr/>
        </p:nvPicPr>
        <p:blipFill>
          <a:blip r:embed="rId1"/>
          <a:stretch/>
        </p:blipFill>
        <p:spPr>
          <a:xfrm>
            <a:off x="6553080" y="4038480"/>
            <a:ext cx="2256120" cy="157824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5"/>
          <p:cNvSpPr/>
          <p:nvPr/>
        </p:nvSpPr>
        <p:spPr>
          <a:xfrm>
            <a:off x="329256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843B-DD62-4731-BBEA-FFD29008CD7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10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A143-DE13-4C4F-9E07-74A1F711004F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0" y="333360"/>
            <a:ext cx="9144000" cy="4529160"/>
          </a:xfrm>
          <a:prstGeom prst="rect">
            <a:avLst/>
          </a:prstGeom>
          <a:solidFill>
            <a:srgbClr val="cc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buClr>
                <a:srgbClr val="ff66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水体的富营养化表现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水体外观呈色，变浊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水中散发出不良气味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解氧含量下降。 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水生生物死亡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生藻毒素。水溶性和耐热性，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一种肝毒素，是肝癌的强烈促癌剂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污染饮用水源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66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营养化水体中藻类主要为蓝细菌（蓝藻）和绿藻，有鱼腥藻属、微囊藻属、颤藻等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日期占位符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E19F-4B92-4199-9A14-16FF784EAC8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13" name="灯片编号占位符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4853-AD47-4607-B6AC-884309F24971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14" name="Picture 2" descr="W020070531561411645724"/>
          <p:cNvPicPr/>
          <p:nvPr/>
        </p:nvPicPr>
        <p:blipFill>
          <a:blip r:embed="rId1"/>
          <a:stretch/>
        </p:blipFill>
        <p:spPr>
          <a:xfrm>
            <a:off x="1476360" y="907920"/>
            <a:ext cx="6629400" cy="4973760"/>
          </a:xfrm>
          <a:prstGeom prst="rect">
            <a:avLst/>
          </a:prstGeom>
          <a:ln w="0">
            <a:noFill/>
          </a:ln>
        </p:spPr>
      </p:pic>
      <p:sp>
        <p:nvSpPr>
          <p:cNvPr id="415" name="AutoShape 3"/>
          <p:cNvSpPr/>
          <p:nvPr/>
        </p:nvSpPr>
        <p:spPr>
          <a:xfrm>
            <a:off x="3962520" y="533520"/>
            <a:ext cx="2971800" cy="9144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31b6fd"/>
          </a:solidFill>
          <a:ln w="9360">
            <a:solidFill>
              <a:srgbClr val="ff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太湖湖畔漂浮着蓝藻</a:t>
            </a: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5:09:31Z</dcterms:created>
  <dc:creator>swjfm</dc:creator>
  <dc:description/>
  <dc:language>en-US</dc:language>
  <cp:lastModifiedBy>xh</cp:lastModifiedBy>
  <cp:lastPrinted>1997-03-02T15:35:10Z</cp:lastPrinted>
  <dcterms:modified xsi:type="dcterms:W3CDTF">2019-03-13T06:42:47Z</dcterms:modified>
  <cp:revision>409</cp:revision>
  <dc:subject/>
  <dc:title>幻灯片 1</dc:title>
</cp:coreProperties>
</file>