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438-1D6D-4EC6-AC24-3CF51C53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50A-391F-4C85-B7D0-F76A816F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59C-FDE9-45B9-A11B-5BED7AF6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BC2-D47F-4751-B270-8F21C8B3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AFB-A57A-45F4-B565-A35BD875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58D-8096-4FBF-8A0A-51A9AE5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EFD3-199B-4418-82DA-F34174B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710-DBCC-45B4-B640-B673F9B7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D093-2704-4226-8140-DA6E0A89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67CC-A53E-4FD0-8243-FA17B9C0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4FC7-F397-4701-919E-3BC4DE3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3C4-835D-4B65-9280-F63FEAA8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792B-79DE-4231-8788-2DD5C60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E446-B4C9-4BC8-BEB1-A9BB7FE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850-EA48-447C-B0D8-DE12F4F4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8A8-DD1A-41ED-9BE1-18DE0148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608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3720" y="18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608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3720" y="40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F33-5FF2-48CD-9079-29CAE71B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F35-5404-48D6-BA3D-0053A8F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5DF-C6D1-4FED-948A-26382B39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522-E0E9-47BB-871A-19554F7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3E9-504C-410F-91AD-B189236D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092-66CC-4381-977E-18C1EF2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40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A9B-C115-411C-A4F4-367DAD6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8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CE4-390D-451B-A0EE-4B0EE06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2_two_rings_hearts_md_wht"/>
          <p:cNvPicPr/>
          <p:nvPr/>
        </p:nvPicPr>
        <p:blipFill>
          <a:blip r:embed="rId2"/>
          <a:stretch/>
        </p:blipFill>
        <p:spPr>
          <a:xfrm>
            <a:off x="4038480" y="5943600"/>
            <a:ext cx="1006560" cy="914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河山图标"/>
          <p:cNvPicPr/>
          <p:nvPr/>
        </p:nvPicPr>
        <p:blipFill>
          <a:blip r:embed="rId3"/>
          <a:stretch/>
        </p:blipFill>
        <p:spPr>
          <a:xfrm>
            <a:off x="266688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happy_anniversary2"/>
          <p:cNvPicPr/>
          <p:nvPr/>
        </p:nvPicPr>
        <p:blipFill>
          <a:blip r:embed="rId4"/>
          <a:stretch/>
        </p:blipFill>
        <p:spPr>
          <a:xfrm>
            <a:off x="762120" y="0"/>
            <a:ext cx="7619760" cy="96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5079-80EE-44A8-988B-72AD71D47C00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6895-FA14-4503-8856-C82205309B7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onkey_business_ape"/>
          <p:cNvPicPr/>
          <p:nvPr/>
        </p:nvPicPr>
        <p:blipFill>
          <a:blip r:embed="rId2"/>
          <a:stretch/>
        </p:blipFill>
        <p:spPr>
          <a:xfrm>
            <a:off x="0" y="0"/>
            <a:ext cx="1600200" cy="513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ape_with_laptop_md_wht"/>
          <p:cNvPicPr/>
          <p:nvPr/>
        </p:nvPicPr>
        <p:blipFill>
          <a:blip r:embed="rId3"/>
          <a:stretch/>
        </p:blipFill>
        <p:spPr>
          <a:xfrm>
            <a:off x="811548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河山图标"/>
          <p:cNvPicPr/>
          <p:nvPr/>
        </p:nvPicPr>
        <p:blipFill>
          <a:blip r:embed="rId4"/>
          <a:stretch/>
        </p:blipFill>
        <p:spPr>
          <a:xfrm>
            <a:off x="335268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"/>
          <p:cNvPicPr/>
          <p:nvPr/>
        </p:nvPicPr>
        <p:blipFill>
          <a:blip r:embed="rId5"/>
          <a:stretch/>
        </p:blipFill>
        <p:spPr>
          <a:xfrm>
            <a:off x="2971800" y="6350040"/>
            <a:ext cx="3581280" cy="507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5011-6DA8-471E-8B34-334C407F13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BD1-BC8B-4FD0-A01A-8F009AB8D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bear_business_spacer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uddly_cow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3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FCC-E8E0-41DC-8B59-B65CC57E44F8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灯片编号占位符 5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87DA-9D4A-4F20-B3C6-4B3435F1946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692360" y="10317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2920" y="1978200"/>
            <a:ext cx="756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任课教师：谢    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话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3583873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-mai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huixie@sdau.edu.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室：校本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号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3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B1EF-2A68-4B35-9832-BAE538C2BD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6227640" y="6110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7DF-8405-496D-9B5E-BB8523866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8000" y="981000"/>
            <a:ext cx="8820000" cy="376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部分内容要强记：比如生物修复概念、机理及其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课后注意复习：温故而知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掌握重点内容：重点内容不一定要考试，但 需要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端正学习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学的东西不可能马上用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考研和考博储备知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3059280" y="189000"/>
            <a:ext cx="2808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DB9-A99B-4786-9353-057465307F34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B80-6C9E-4220-AA9C-9ECD31B2CD8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189000"/>
            <a:ext cx="9217080" cy="32864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加强课堂教学管理改善教风学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稳定课堂秩序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课教师是课堂管理的第一责任人，任课教师在授课的同时，负责管理课堂秩序，纠正学生旷课、迟到、早退、睡觉、聊天、玩手机、吃零食等不良行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严格过程管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任课教师要加强教学过程管理，采取适当的方式进行考勤，严格执行学校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旷课三次及以上者不得参加所修课程考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规定。学生上课要认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记录课堂笔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任课教师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期检查学生的课堂笔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原则上要求每讲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时检查一次，把学生听课笔记检查情况作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程平时成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重要组成部分（至少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时成绩的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生上课无听课笔记者，平时成绩按零分计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任课教师要对学生的课堂笔记评阅打分，并结合作业、课堂测验等加强平时成绩的管理，平时成绩不合格者，不能参加所修课程的结课考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严肃学生上课纪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互尊重对方；保持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3E8-E081-4AF6-9B64-465C61FC705F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666-54E7-46D7-8C1E-D53A3C5AE98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785880"/>
            <a:ext cx="856944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课程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环境工程专业的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专业特色课，性质为选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本课程的学习可以使学生了解和掌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污染物对生物的影响、污染物的生物效应检测、环境质量的生物监测与评价、环境污染的生物净化原理和生物修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使学生能够充分理解并应用生物修复技术及其控制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557C-9DF3-41C8-8C28-4639CC61A3E5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B95D-DD3F-4AE6-9542-8A3B5FC706D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125360"/>
            <a:ext cx="9144000" cy="37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主要参考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[1]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孔繁祥主编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》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世纪教材，  高等教育出版社，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00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耿春女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建材工业出版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5.5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3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段昌群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版 科学出版社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4]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熊治廷 主编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化学工业出版社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第    一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[5]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李顺鹏主编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，中国农业出版社，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2002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6]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学新 浙江大学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生物学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精品课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FEE6-CA86-473C-9CC2-B741DAF07F3D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51B-4A44-413B-AAD3-5F70AB132DB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25360"/>
          <a:ext cx="9144000" cy="4607280"/>
        </p:xfrm>
        <a:graphic>
          <a:graphicData uri="http://schemas.openxmlformats.org/drawingml/2006/table">
            <a:tbl>
              <a:tblPr/>
              <a:tblGrid>
                <a:gridCol w="7020000"/>
                <a:gridCol w="21240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授课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安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绪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一章  环境污染物在生态系统中的行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二章  污染物对生物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三章  污染物的生物效应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第四章  环境质量的生物监测与生物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第五章  环境污染生物净化的原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第六章  污染环境的生物修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2d2db9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讲授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7"/>
          <p:cNvSpPr/>
          <p:nvPr/>
        </p:nvSpPr>
        <p:spPr>
          <a:xfrm>
            <a:off x="2571840" y="35568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主要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C4C-046D-40D3-956E-3F325EF5421C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B348-DCEE-485E-9156-91DF578318B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0" y="4797360"/>
            <a:ext cx="4716360" cy="7192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00000" y="1125360"/>
            <a:ext cx="3097440" cy="93528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0" y="2781360"/>
            <a:ext cx="414036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959280" y="260280"/>
            <a:ext cx="5184720" cy="45385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科学中重大的环境问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生物学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形成与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研究对象与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的研究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生物学与相关学科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国环境生物学的优先研究领域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050-B589-48F6-A008-2EB56DAFCB24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A9A2-7F77-4CA4-B13D-515637EDFB6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2"/>
          <p:cNvSpPr/>
          <p:nvPr/>
        </p:nvSpPr>
        <p:spPr>
          <a:xfrm>
            <a:off x="0" y="4221000"/>
            <a:ext cx="4500720" cy="7192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1916280"/>
            <a:ext cx="4175280" cy="934920"/>
          </a:xfrm>
          <a:custGeom>
            <a:avLst/>
            <a:gdLst>
              <a:gd name="textAreaLeft" fmla="*/ 0 w 4175280"/>
              <a:gd name="textAreaRight" fmla="*/ 4175640 w 41752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2" y="0"/>
                </a:lnTo>
                <a:lnTo>
                  <a:pt x="21600" y="10800"/>
                </a:lnTo>
                <a:lnTo>
                  <a:pt x="164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95280" y="836640"/>
            <a:ext cx="230508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59280" y="1628640"/>
            <a:ext cx="5184720" cy="209664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章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环境污染物在生态系统中的行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章 污染物对生物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章 污染物的生物效应检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章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环境质量的生物监测与生物评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687920" y="3921120"/>
            <a:ext cx="372744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1"/>
          <p:cNvSpPr/>
          <p:nvPr/>
        </p:nvSpPr>
        <p:spPr>
          <a:xfrm>
            <a:off x="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E14-89B8-40FC-B360-DEC5BC8D8286}" type="datetime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7956720" y="6400800"/>
            <a:ext cx="7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3405-994D-41E5-924C-26A7A8348A4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"/>
          <p:cNvSpPr/>
          <p:nvPr/>
        </p:nvSpPr>
        <p:spPr>
          <a:xfrm>
            <a:off x="0" y="1773360"/>
            <a:ext cx="5724360" cy="7189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篇 环境污染的生物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3429000"/>
            <a:ext cx="4102200" cy="93492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篇 环境污染的生物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95280" y="692280"/>
            <a:ext cx="2089080" cy="79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08360" y="2852640"/>
            <a:ext cx="5435640" cy="21283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章 环境污染生物净化的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六章 污染环境的生物修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第七章 现代生物技术与环境污染治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第八章  环境生物学在环境影响评价中的应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6876-5703-4DCE-A907-B718A440AE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37A-9288-441E-9A50-0F3977FD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981000"/>
            <a:ext cx="8567640" cy="52117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本课程的成绩核算由两部分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成绩 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笔记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无课堂笔记者，平时成绩为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习题 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论文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土壤污染的生物修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闭卷考试成绩 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考试题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词解释、选择、填空、简述和论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4726800" y="201600"/>
            <a:ext cx="41400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本课程考核方式和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6:07:38Z</dcterms:created>
  <dc:creator>pc4</dc:creator>
  <dc:description/>
  <dc:language>en-US</dc:language>
  <cp:lastModifiedBy>xh</cp:lastModifiedBy>
  <dcterms:modified xsi:type="dcterms:W3CDTF">2019-02-20T07:05:07Z</dcterms:modified>
  <cp:revision>286</cp:revision>
  <dc:subject/>
  <dc:title>幻灯片 1</dc:title>
</cp:coreProperties>
</file>